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F772-990E-4998-9F97-D7BE1E610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8587-CB67-4C70-8719-5D1B309C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9E0E-1F71-46A9-AC33-72FC87EA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F13-192D-496C-89A0-3F715DBA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B91C-DC2F-4575-933C-3F39ACB7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5DB8-5656-4229-A537-077A2827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00EC-A482-489D-9E6D-2C96DEA5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4EE9-ABE6-4FF7-AFB8-B1B383D6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33C9-F7CD-4154-A46C-1698E9EC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A5B8-7A6C-43E3-A8D7-4CA1144C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0C59-FA91-45BE-BBC7-6FA49EC4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3E06-9D70-4740-A4AF-84B5D861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E409-FE8B-4C95-9A20-3017EEF173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9250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M.I.R.(A.S.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M. Pri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.M.I.S.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ce Patter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uto-correlation of th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fferen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etween native and “derivative”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of  Harker vectors arising for each site due to spacegroup 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so cross-vectors between each of the 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tes at “special” positions are comm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Patter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d-patt_ptcl" descr=""/>
          <p:cNvPicPr/>
          <p:nvPr/>
        </p:nvPicPr>
        <p:blipFill>
          <a:blip r:embed="rId1"/>
          <a:stretch/>
        </p:blipFill>
        <p:spPr>
          <a:xfrm>
            <a:off x="685800" y="2193840"/>
            <a:ext cx="3809880" cy="3917880"/>
          </a:xfrm>
          <a:prstGeom prst="rect">
            <a:avLst/>
          </a:prstGeom>
          <a:ln w="0">
            <a:noFill/>
          </a:ln>
        </p:spPr>
      </p:pic>
      <p:pic>
        <p:nvPicPr>
          <p:cNvPr id="68" name="ptclhsec" descr=""/>
          <p:cNvPicPr/>
          <p:nvPr/>
        </p:nvPicPr>
        <p:blipFill>
          <a:blip r:embed="rId2"/>
          <a:stretch/>
        </p:blipFill>
        <p:spPr>
          <a:xfrm>
            <a:off x="4648320" y="2698920"/>
            <a:ext cx="380988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isomorph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ding at crystal cont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the unit cell - sometime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ignificant as resolution in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xcon" descr=""/>
          <p:cNvPicPr/>
          <p:nvPr/>
        </p:nvPicPr>
        <p:blipFill>
          <a:blip r:embed="rId1"/>
          <a:stretch/>
        </p:blipFill>
        <p:spPr>
          <a:xfrm>
            <a:off x="4818240" y="1981080"/>
            <a:ext cx="3468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HA sub-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simple diff-Pattersons with Harkers,  solve by inspection 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sp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a handful of site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helx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Patterson search or direct methods), or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anta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Direct methods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re sites ?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hake’n’ B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re  needed with reflection selection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elxs inpu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ject: autostruct.or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parent transfer between pa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CP4i interfaces for other packages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helx/xfi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shelx_if" descr=""/>
          <p:cNvPicPr/>
          <p:nvPr/>
        </p:nvPicPr>
        <p:blipFill>
          <a:blip r:embed="rId1"/>
          <a:stretch/>
        </p:blipFill>
        <p:spPr>
          <a:xfrm>
            <a:off x="1901880" y="1066680"/>
            <a:ext cx="5338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elxs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shelx_soln" descr=""/>
          <p:cNvPicPr/>
          <p:nvPr/>
        </p:nvPicPr>
        <p:blipFill>
          <a:blip r:embed="rId1"/>
          <a:stretch/>
        </p:blipFill>
        <p:spPr>
          <a:xfrm>
            <a:off x="685800" y="2293920"/>
            <a:ext cx="777240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 the sites refine against the data? (us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lpha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ith centric zones if possible and refine occupanc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e the sites consistent with the diff-Patterson ? (us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vector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amp; graphics display and/or refine wit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vecre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ill phases from the sites cross phase another derivativ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inement of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lphare_sir" descr=""/>
          <p:cNvPicPr/>
          <p:nvPr/>
        </p:nvPicPr>
        <p:blipFill>
          <a:blip r:embed="rId1"/>
          <a:stretch/>
        </p:blipFill>
        <p:spPr>
          <a:xfrm>
            <a:off x="1047600" y="1295280"/>
            <a:ext cx="3589560" cy="4876920"/>
          </a:xfrm>
          <a:prstGeom prst="rect">
            <a:avLst/>
          </a:prstGeom>
          <a:ln w="0">
            <a:noFill/>
          </a:ln>
        </p:spPr>
      </p:pic>
      <p:pic>
        <p:nvPicPr>
          <p:cNvPr id="83" name="Rcull_ptclsir" descr=""/>
          <p:cNvPicPr/>
          <p:nvPr/>
        </p:nvPicPr>
        <p:blipFill>
          <a:blip r:embed="rId2"/>
          <a:stretch/>
        </p:blipFill>
        <p:spPr>
          <a:xfrm>
            <a:off x="4782960" y="1295280"/>
            <a:ext cx="3103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ss/self pha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milar to difference map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,Ф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B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nient for solution of further derivatives once one or more have been f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tains chirality and origin across derivative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ware ghost peaks and of pseudo-symmetr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ss phasing of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eriv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6324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directly within CCP4i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mlphare_sir" descr=""/>
          <p:cNvPicPr/>
          <p:nvPr/>
        </p:nvPicPr>
        <p:blipFill>
          <a:blip r:embed="rId1"/>
          <a:stretch/>
        </p:blipFill>
        <p:spPr>
          <a:xfrm>
            <a:off x="711360" y="1143000"/>
            <a:ext cx="3757320" cy="5105520"/>
          </a:xfrm>
          <a:prstGeom prst="rect">
            <a:avLst/>
          </a:prstGeom>
          <a:ln w="0">
            <a:noFill/>
          </a:ln>
        </p:spPr>
      </p:pic>
      <p:pic>
        <p:nvPicPr>
          <p:cNvPr id="89" name="PtCNdfou" descr=""/>
          <p:cNvPicPr/>
          <p:nvPr/>
        </p:nvPicPr>
        <p:blipFill>
          <a:blip r:embed="rId2"/>
          <a:stretch/>
        </p:blipFill>
        <p:spPr>
          <a:xfrm>
            <a:off x="4572000" y="2257560"/>
            <a:ext cx="38098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nly generally applicable way of  solving macromolecular cryst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3809520"/>
            <a:ext cx="7924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eliance on homologous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eliance on recombinant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ce of specific residues not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combined with M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inement of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fine sites using reliable data over the resolution interval for which the derivative is isomorpho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ke full use of centric zones (for which Ф is constrained to 0 or π or  ± π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tain chirality and use Anomalous data to select correct h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nitor lack of closure (eg. Cullis R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inement of all deriv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5943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correct hand using anomalous occup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mlphare_mir" descr=""/>
          <p:cNvPicPr/>
          <p:nvPr/>
        </p:nvPicPr>
        <p:blipFill>
          <a:blip r:embed="rId1"/>
          <a:stretch/>
        </p:blipFill>
        <p:spPr>
          <a:xfrm>
            <a:off x="863640" y="914400"/>
            <a:ext cx="3452760" cy="4876920"/>
          </a:xfrm>
          <a:prstGeom prst="rect">
            <a:avLst/>
          </a:prstGeom>
          <a:ln w="0">
            <a:noFill/>
          </a:ln>
        </p:spPr>
      </p:pic>
      <p:pic>
        <p:nvPicPr>
          <p:cNvPr id="95" name="ha-hand" descr=""/>
          <p:cNvPicPr/>
          <p:nvPr/>
        </p:nvPicPr>
        <p:blipFill>
          <a:blip r:embed="rId2"/>
          <a:stretch/>
        </p:blipFill>
        <p:spPr>
          <a:xfrm>
            <a:off x="4648320" y="2173320"/>
            <a:ext cx="38098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pha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sure all significant sites are accounted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lcul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hases for all of the reflections which have a derivative meas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ware of common 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ware of correlated non-isomorph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void overestimation of the FOM’s - this will compromise density mod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ph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6019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important to have correct FOM’s as these influence subsequent phase impr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mir_fom" descr=""/>
          <p:cNvPicPr/>
          <p:nvPr/>
        </p:nvPicPr>
        <p:blipFill>
          <a:blip r:embed="rId1"/>
          <a:stretch/>
        </p:blipFill>
        <p:spPr>
          <a:xfrm>
            <a:off x="1039680" y="1143000"/>
            <a:ext cx="3102120" cy="4876920"/>
          </a:xfrm>
          <a:prstGeom prst="rect">
            <a:avLst/>
          </a:prstGeom>
          <a:ln w="0">
            <a:noFill/>
          </a:ln>
        </p:spPr>
      </p:pic>
      <p:pic>
        <p:nvPicPr>
          <p:cNvPr id="101" name="fft_miras" descr=""/>
          <p:cNvPicPr/>
          <p:nvPr/>
        </p:nvPicPr>
        <p:blipFill>
          <a:blip r:embed="rId2"/>
          <a:stretch/>
        </p:blipFill>
        <p:spPr>
          <a:xfrm>
            <a:off x="4648320" y="1952640"/>
            <a:ext cx="38098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(MIRAS)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map1" descr=""/>
          <p:cNvPicPr/>
          <p:nvPr/>
        </p:nvPicPr>
        <p:blipFill>
          <a:blip r:embed="rId1"/>
          <a:stretch/>
        </p:blipFill>
        <p:spPr>
          <a:xfrm>
            <a:off x="1324080" y="1295280"/>
            <a:ext cx="6495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nsity Mod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heavy atom sites to identify any Non-crystallographic 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are of any large atoms already present in the protein - may need to truncate density interval for envelope determination if this is the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ll available modification techniques and check for solvent boundaries and secondary structure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nt flatt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6248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RAS phases input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dmsol" descr=""/>
          <p:cNvPicPr/>
          <p:nvPr/>
        </p:nvPicPr>
        <p:blipFill>
          <a:blip r:embed="rId1"/>
          <a:stretch/>
        </p:blipFill>
        <p:spPr>
          <a:xfrm>
            <a:off x="609480" y="2124000"/>
            <a:ext cx="3810240" cy="2914560"/>
          </a:xfrm>
          <a:prstGeom prst="rect">
            <a:avLst/>
          </a:prstGeom>
          <a:ln w="0">
            <a:noFill/>
          </a:ln>
        </p:spPr>
      </p:pic>
      <p:pic>
        <p:nvPicPr>
          <p:cNvPr id="109" name="dmsolfom" descr=""/>
          <p:cNvPicPr/>
          <p:nvPr/>
        </p:nvPicPr>
        <p:blipFill>
          <a:blip r:embed="rId2"/>
          <a:stretch/>
        </p:blipFill>
        <p:spPr>
          <a:xfrm>
            <a:off x="5002200" y="1143000"/>
            <a:ext cx="3102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nt flattened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map_solf" descr=""/>
          <p:cNvPicPr/>
          <p:nvPr/>
        </p:nvPicPr>
        <p:blipFill>
          <a:blip r:embed="rId1"/>
          <a:stretch/>
        </p:blipFill>
        <p:spPr>
          <a:xfrm>
            <a:off x="865080" y="1143000"/>
            <a:ext cx="74120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CS avera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5943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erators from HA sites –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indncs/profes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sk from sites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csmas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or automatically from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dmncs" descr=""/>
          <p:cNvPicPr/>
          <p:nvPr/>
        </p:nvPicPr>
        <p:blipFill>
          <a:blip r:embed="rId1"/>
          <a:stretch/>
        </p:blipFill>
        <p:spPr>
          <a:xfrm>
            <a:off x="685800" y="1225440"/>
            <a:ext cx="3809880" cy="4483080"/>
          </a:xfrm>
          <a:prstGeom prst="rect">
            <a:avLst/>
          </a:prstGeom>
          <a:ln w="0">
            <a:noFill/>
          </a:ln>
        </p:spPr>
      </p:pic>
      <p:pic>
        <p:nvPicPr>
          <p:cNvPr id="115" name="dmncsfom" descr=""/>
          <p:cNvPicPr/>
          <p:nvPr/>
        </p:nvPicPr>
        <p:blipFill>
          <a:blip r:embed="rId2"/>
          <a:stretch/>
        </p:blipFill>
        <p:spPr>
          <a:xfrm>
            <a:off x="5073480" y="1143000"/>
            <a:ext cx="2957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CS averaged (phase extended) m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map_ncsa" descr=""/>
          <p:cNvPicPr/>
          <p:nvPr/>
        </p:nvPicPr>
        <p:blipFill>
          <a:blip r:embed="rId1"/>
          <a:stretch/>
        </p:blipFill>
        <p:spPr>
          <a:xfrm>
            <a:off x="812880" y="1143000"/>
            <a:ext cx="75182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ruption of Nativ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ison of native and “treated” s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s available only to a limited resolution (in gene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of Heavy Atom compounds is a trial and error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s of crystal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 Ex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tend phases to best data re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vent flattening 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olomon/d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and Histogrammic matching 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keletonization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/free atom modell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CS/multi-crystal averaging 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dm/dmmult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utomated secondary structure search 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ffea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ociated/Related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RAS -  hand ambiguity overcome by analysing density maps 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api/oas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D – eg. on a derivitized crystal too non-isomorphous for SI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ne wavelength anomalous scattering 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api/oas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Obtain stable mother liquor or cryo-protec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Collect n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. Soak crystals (or co-crystallize) with Heavy atom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4. Collect  X-ray d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Scale soak-native and calculated difference (native-soak) Patterson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Solve heavy atom sub-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Repeat 3-6 to get a different set of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 Calculate ph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aware of properties of HA salt (eg Silver Nitrate-Cl, Mercury Iodide/KI, Platinum tetra chlori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ystallization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tein Chem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system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ak concentrations 1-5mM, time overn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ak HA in la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ke native compar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cksoak to remove non-specific sites or manipulate existing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creening can be done at low resolution (4-5Å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llect derivative data optimizing parameters at intermediate resolu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llect for anomalous scattering but choose wavelength carefu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nimize systematic errors in native compari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use Native data as reference when internally scaling derivative data 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cal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thods; Kraut’s method 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hsca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, scale + (an)isotropic B 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calei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, local scaling …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atch for contrast effects at low resolution especially if no backsoaking was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atch for non-isomorphism at higher re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Fhsca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raut’s method used (equalize Patterson origi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fhscal" descr=""/>
          <p:cNvPicPr/>
          <p:nvPr/>
        </p:nvPicPr>
        <p:blipFill>
          <a:blip r:embed="rId1"/>
          <a:stretch/>
        </p:blipFill>
        <p:spPr>
          <a:xfrm>
            <a:off x="685800" y="1755720"/>
            <a:ext cx="3809880" cy="2887560"/>
          </a:xfrm>
          <a:prstGeom prst="rect">
            <a:avLst/>
          </a:prstGeom>
          <a:ln w="0">
            <a:noFill/>
          </a:ln>
        </p:spPr>
      </p:pic>
      <p:pic>
        <p:nvPicPr>
          <p:cNvPr id="60" name="riso_ptcl" descr=""/>
          <p:cNvPicPr/>
          <p:nvPr/>
        </p:nvPicPr>
        <p:blipFill>
          <a:blip r:embed="rId2"/>
          <a:stretch/>
        </p:blipFill>
        <p:spPr>
          <a:xfrm>
            <a:off x="5146560" y="990720"/>
            <a:ext cx="2811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eck Normal distribution plot (summary i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calei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 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s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difference Patterson using only reliable data and choose contour levels 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refu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y attention to Harker sections if there are 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maps over different resolution interv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eck anomalous difference Patter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18:01:54Z</dcterms:created>
  <dc:creator>JPD3</dc:creator>
  <dc:description/>
  <dc:language>en-US</dc:language>
  <cp:lastModifiedBy>Mjfsssmp</cp:lastModifiedBy>
  <dcterms:modified xsi:type="dcterms:W3CDTF">2002-05-21T12:28:56Z</dcterms:modified>
  <cp:revision>10</cp:revision>
  <dc:subject/>
  <dc:title>MIR(AS)</dc:title>
</cp:coreProperties>
</file>