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40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8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40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800" y="627120"/>
            <a:ext cx="86025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00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800" y="4587120"/>
            <a:ext cx="86025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38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4000"/>
              </a:lnSpc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85840">
              <a:lnSpc>
                <a:spcPct val="94000"/>
              </a:lnSpc>
              <a:spcAft>
                <a:spcPts val="13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2400" indent="-214560">
              <a:lnSpc>
                <a:spcPct val="94000"/>
              </a:lnSpc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4040" indent="-212760">
              <a:lnSpc>
                <a:spcPct val="94000"/>
              </a:lnSpc>
              <a:spcAft>
                <a:spcPts val="13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5680" indent="-214200">
              <a:lnSpc>
                <a:spcPct val="94000"/>
              </a:lnSpc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5680" indent="-214200">
              <a:lnSpc>
                <a:spcPct val="94000"/>
              </a:lnSpc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5680" indent="-214200">
              <a:lnSpc>
                <a:spcPct val="94000"/>
              </a:lnSpc>
              <a:spcAft>
                <a:spcPts val="13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39440" y="1390320"/>
            <a:ext cx="8607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  <a:ea typeface="HG Mincho Light J"/>
              </a:rPr>
              <a:t>Macromolecular refin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  <a:ea typeface="HG Mincho Light J"/>
              </a:rPr>
              <a:t>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  <a:ea typeface="HG Mincho Light J"/>
              </a:rPr>
              <a:t>REFMAC5 and SKET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  <a:ea typeface="HG Mincho Light J"/>
              </a:rPr>
              <a:t>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"/>
                <a:ea typeface="HG Mincho Light J"/>
              </a:rPr>
              <a:t>CCP4 su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198880" y="6324480"/>
            <a:ext cx="5819400" cy="3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Roberto A. Steiner – University of Y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Maximum likelihood residu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95160" y="1782720"/>
            <a:ext cx="8607600" cy="26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P(M;O) = P(M)P(O;M)/P(O) = P(M)L(M;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max P(M;O)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 min [-logP(M) -logL(M;O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82360" y="6553080"/>
            <a:ext cx="67795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Murshudov et al., Acta Cryst. (1997) D53, 240-255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Maximum likelihood refinement progra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1589040"/>
            <a:ext cx="86076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63520" y="2154240"/>
            <a:ext cx="8607600" cy="30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algn="just">
              <a:lnSpc>
                <a:spcPct val="97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33000"/>
              <a:buFont typeface="Symbol" charset="2"/>
              <a:buChar char="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REFMAC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33000"/>
              <a:buFont typeface="Symbol" charset="2"/>
              <a:buChar char="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CNS/CN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33000"/>
              <a:buFont typeface="Symbol" charset="2"/>
              <a:buChar char="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BUSTER-T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2666880"/>
            <a:ext cx="2736720" cy="681120"/>
          </a:xfrm>
          <a:prstGeom prst="ellipse">
            <a:avLst/>
          </a:prstGeom>
          <a:noFill/>
          <a:ln w="360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Essential features of REFMAC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1733040"/>
            <a:ext cx="860760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REFMAC5 is a ML FFT program for the refinement of macromolecular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5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Multiple tasks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(phased and non-phased restrained, unrestrained, rigid-body refinement, ideal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5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Fast convergence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(approximate 2nd-order diagonal minim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5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Extensive built-in dictionary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(LIBCHE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5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Graphical control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(CCP4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5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Flexible parameterization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(iso-,aniso-,mixed-ADPs, TLS, bulk solv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5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Easy to use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(coordinate and reflection files, straightforward inclusion of alternate conform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Selected topic 1: T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55640" y="1589040"/>
            <a:ext cx="86076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ADPs are an important component of a macro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 algn="just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Proper parame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 algn="just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Biological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Displacements are likely anisotropic, but rarely we have the luxury of refinining individual aniso-U. Instead iso-B ar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TLS parameterization allows an intermediate descri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Bookman"/>
              </a:rPr>
              <a:t>Decomposition of AD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25400" y="2327040"/>
            <a:ext cx="86076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ookman"/>
                <a:ea typeface="HG Mincho Light J"/>
              </a:rPr>
              <a:t>U = U</a:t>
            </a:r>
            <a:r>
              <a:rPr b="1" lang="en-GB" sz="3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cryst</a:t>
            </a:r>
            <a:r>
              <a:rPr b="1" lang="en-GB" sz="3600" spc="-1" strike="noStrike">
                <a:solidFill>
                  <a:srgbClr val="ffffff"/>
                </a:solidFill>
                <a:latin typeface="Bookman"/>
                <a:ea typeface="HG Mincho Light J"/>
              </a:rPr>
              <a:t>+U</a:t>
            </a:r>
            <a:r>
              <a:rPr b="1" lang="en-GB" sz="3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TLS</a:t>
            </a:r>
            <a:r>
              <a:rPr b="1" lang="en-GB" sz="3600" spc="-1" strike="noStrike">
                <a:solidFill>
                  <a:srgbClr val="ffffff"/>
                </a:solidFill>
                <a:latin typeface="Bookman"/>
                <a:ea typeface="HG Mincho Light J"/>
              </a:rPr>
              <a:t>+U</a:t>
            </a:r>
            <a:r>
              <a:rPr b="1" lang="en-GB" sz="3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int</a:t>
            </a:r>
            <a:r>
              <a:rPr b="1" lang="en-GB" sz="3600" spc="-1" strike="noStrike">
                <a:solidFill>
                  <a:srgbClr val="ffffff"/>
                </a:solidFill>
                <a:latin typeface="Bookman"/>
                <a:ea typeface="HG Mincho Light J"/>
              </a:rPr>
              <a:t>+U</a:t>
            </a:r>
            <a:r>
              <a:rPr b="1" lang="en-GB" sz="3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U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cryst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: overall anisotropy of the crys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U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TLS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: TLS motions of pseudo-rigidy bod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U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int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: collective torsional librations or 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internal normal mo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U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cryst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: individual atomic mo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Rigid-body mo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14440" y="1450800"/>
            <a:ext cx="9069120" cy="5667480"/>
            <a:chOff x="514440" y="1450800"/>
            <a:chExt cx="9069120" cy="566748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14440" y="1467000"/>
              <a:ext cx="3932280" cy="56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760" y="1450800"/>
              <a:ext cx="4852800" cy="55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ookman"/>
                  <a:ea typeface="HG Mincho Light J"/>
                </a:rPr>
                <a:t>General displacement of a rigid-body point can be described as a rotation along an axis passing through a fixed point together with a translation of that fixed poin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Bookman"/>
                  <a:ea typeface="HG Mincho Light J"/>
                </a:rPr>
                <a:t>u</a:t>
              </a:r>
              <a:r>
                <a:rPr b="1" lang="en-US" sz="3200" spc="-1" strike="noStrike">
                  <a:solidFill>
                    <a:srgbClr val="ffffff"/>
                  </a:solidFill>
                  <a:latin typeface="Bookman L"/>
                  <a:ea typeface="HG Mincho Light J"/>
                </a:rPr>
                <a:t> = 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Bookman"/>
                  <a:ea typeface="HG Mincho Light J"/>
                </a:rPr>
                <a:t>t</a:t>
              </a:r>
              <a:r>
                <a:rPr b="1" lang="en-US" sz="3200" spc="-1" strike="noStrike">
                  <a:solidFill>
                    <a:srgbClr val="ffffff"/>
                  </a:solidFill>
                  <a:latin typeface="Bookman L"/>
                  <a:ea typeface="HG Mincho Light J"/>
                </a:rPr>
                <a:t> + </a:t>
              </a:r>
              <a:r>
                <a:rPr b="1" lang="en-US" sz="3200" spc="-1" strike="noStrike">
                  <a:solidFill>
                    <a:srgbClr val="ffffff"/>
                  </a:solidFill>
                  <a:latin typeface="Bookman"/>
                  <a:ea typeface="HG Mincho Light J"/>
                </a:rPr>
                <a:t>D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Bookman"/>
                  <a:ea typeface="HG Mincho Light J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ookman"/>
                  <a:ea typeface="HG Mincho Light J"/>
                </a:rPr>
                <a:t>for small libr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Bookman"/>
                  <a:ea typeface="HG Mincho Light J"/>
                </a:rPr>
                <a:t>u</a:t>
              </a:r>
              <a:r>
                <a:rPr b="1" lang="en-US" sz="3200" spc="-1" strike="noStrike">
                  <a:solidFill>
                    <a:srgbClr val="ffffff"/>
                  </a:solidFill>
                  <a:latin typeface="Bookman L"/>
                  <a:ea typeface="HG Mincho Light J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</a:t>
              </a:r>
              <a:r>
                <a:rPr b="1" lang="en-US" sz="3200" spc="-1" strike="noStrike">
                  <a:solidFill>
                    <a:srgbClr val="ffffff"/>
                  </a:solidFill>
                  <a:latin typeface="Bookman L"/>
                  <a:ea typeface="HG Mincho Light J"/>
                </a:rPr>
                <a:t> 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Bookman"/>
                  <a:ea typeface="HG Mincho Light J"/>
                </a:rPr>
                <a:t>t</a:t>
              </a:r>
              <a:r>
                <a:rPr b="1" lang="en-US" sz="3200" spc="-1" strike="noStrike">
                  <a:solidFill>
                    <a:srgbClr val="ffffff"/>
                  </a:solidFill>
                  <a:latin typeface="Bookman L"/>
                  <a:ea typeface="HG Mincho Light J"/>
                </a:rPr>
                <a:t> + 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Symbol"/>
                  <a:ea typeface="Symbol"/>
                </a:rPr>
                <a:t></a:t>
              </a:r>
              <a:r>
                <a:rPr b="1" lang="en-US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r>
                <a:rPr b="1" lang="en-US" sz="3200" spc="-1" strike="noStrike" u="sng">
                  <a:solidFill>
                    <a:srgbClr val="ffffff"/>
                  </a:solidFill>
                  <a:uFillTx/>
                  <a:latin typeface="Bookman"/>
                  <a:ea typeface="HG Mincho Light J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ookman"/>
                  <a:ea typeface="HG Mincho Light J"/>
                </a:rPr>
                <a:t>D = rotation matri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8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ffffff"/>
                  </a:solidFill>
                  <a:uFillTx/>
                  <a:latin typeface="Symbol"/>
                  <a:ea typeface="Symbol"/>
                </a:rPr>
                <a:t>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1" lang="en-US" sz="2200" spc="-1" strike="noStrike">
                  <a:solidFill>
                    <a:srgbClr val="ffffff"/>
                  </a:solidFill>
                  <a:latin typeface="Bookman"/>
                  <a:ea typeface="HG Mincho Light J"/>
                </a:rPr>
                <a:t>= vector along the rotation axis  of magnitude equal to the angle of ro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TLS paramet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8960" y="1724040"/>
            <a:ext cx="90108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Dyad produc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uu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=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tt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+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t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-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t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-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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ADPs are the time and space a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U</a:t>
            </a:r>
            <a:r>
              <a:rPr b="1" lang="en-GB" sz="3200" spc="-1" strike="noStrike" baseline="-33000">
                <a:solidFill>
                  <a:srgbClr val="ffffff"/>
                </a:solidFill>
                <a:latin typeface="Bookman L"/>
                <a:ea typeface="HG Mincho Light J"/>
              </a:rPr>
              <a:t>TLS 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= 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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uu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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T + S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-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S -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L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2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= 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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tt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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6 parameters, </a:t>
            </a:r>
            <a:r>
              <a:rPr b="1" lang="en-GB" sz="2600" spc="-1" strike="noStrike">
                <a:solidFill>
                  <a:srgbClr val="ffff00"/>
                </a:solidFill>
                <a:latin typeface="Bookman"/>
                <a:ea typeface="HG Mincho Light J"/>
              </a:rPr>
              <a:t>TRANS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L </a:t>
            </a:r>
            <a:r>
              <a:rPr b="1" lang="en-GB" sz="2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= 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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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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6 parameters, </a:t>
            </a:r>
            <a:r>
              <a:rPr b="1" lang="en-GB" sz="2600" spc="-1" strike="noStrike">
                <a:solidFill>
                  <a:srgbClr val="ffff00"/>
                </a:solidFill>
                <a:latin typeface="Bookman"/>
                <a:ea typeface="HG Mincho Light J"/>
              </a:rPr>
              <a:t>LIB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S </a:t>
            </a:r>
            <a:r>
              <a:rPr b="1" lang="en-GB" sz="2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= 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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t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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8 parameters, </a:t>
            </a:r>
            <a:r>
              <a:rPr b="1" lang="en-GB" sz="2600" spc="-1" strike="noStrike">
                <a:solidFill>
                  <a:srgbClr val="ffff00"/>
                </a:solidFill>
                <a:latin typeface="Bookman"/>
                <a:ea typeface="HG Mincho Light J"/>
              </a:rPr>
              <a:t>SCREW-RO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Use of T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3720" y="1450800"/>
            <a:ext cx="9163080" cy="42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U</a:t>
            </a:r>
            <a:r>
              <a:rPr b="1" lang="en-GB" sz="3200" spc="-1" strike="noStrike" baseline="-33000">
                <a:solidFill>
                  <a:srgbClr val="ffffff"/>
                </a:solidFill>
                <a:latin typeface="Bookman L"/>
                <a:ea typeface="HG Mincho Light J"/>
              </a:rPr>
              <a:t>TLS 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= 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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uu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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T + S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-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S -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L</a:t>
            </a:r>
            <a:r>
              <a:rPr b="1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Bookman L"/>
                <a:ea typeface="HG Mincho Light J"/>
              </a:rPr>
              <a:t>r</a:t>
            </a:r>
            <a:r>
              <a:rPr b="1" lang="en-GB" sz="3200" spc="-1" strike="noStrike" baseline="33000">
                <a:solidFill>
                  <a:srgbClr val="ffffff"/>
                </a:solidFill>
                <a:latin typeface="Bookman L"/>
                <a:ea typeface="HG Mincho Light J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analysis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: given inidividual aniso-ADPs fit TLS parame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Harata et al., (2002) Proteins, 48, 53-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Harata et al., (1999) J. Mol. Biol., 30, 232-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refinement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: TLS as refinement parame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Howlin et al., (1989) Acta Cryst., A45, 851-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Winn et al., (2001) Acta Cryst., D57, 122-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Choice of TLS groups and resolu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960" y="1450800"/>
            <a:ext cx="875484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2760" indent="-212760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Choice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: chains, domains, secondary structure elements,..more complex M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Resolution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: you have only 20 more parameters per TLS grou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Thioredoxin reductase 3 Å 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(Sandalova et al., (2001) 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PNAS, 98, 9533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6 TLS groups (1 for each of 6 monomers in as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What to do in REFMAC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3720" y="1450800"/>
            <a:ext cx="9163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Suggested 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Choose TLS groups (TLSIN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Use anisotropic sc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Set B to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Refine TLS parameters against ML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Refine coordinates and residual B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NCS restraints can be applied to residual B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8960" y="1560600"/>
            <a:ext cx="860760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92240" indent="0" algn="just">
              <a:lnSpc>
                <a:spcPct val="97000"/>
              </a:lnSpc>
              <a:buNone/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"/>
                <a:ea typeface="HG Mincho Light J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0" algn="just">
              <a:lnSpc>
                <a:spcPct val="97000"/>
              </a:lnSpc>
              <a:buNone/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"/>
                <a:ea typeface="HG Mincho Light J"/>
              </a:rPr>
              <a:t>General aspects of refinement and overview of REFMAC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 algn="just">
              <a:lnSpc>
                <a:spcPct val="97000"/>
              </a:lnSpc>
              <a:buClr>
                <a:srgbClr val="ffffff"/>
              </a:buClr>
              <a:buSzPct val="62000"/>
              <a:buFont typeface="Symbol" charset="2"/>
              <a:buChar char="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T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 algn="just">
              <a:lnSpc>
                <a:spcPct val="97000"/>
              </a:lnSpc>
              <a:buClr>
                <a:srgbClr val="ffffff"/>
              </a:buClr>
              <a:buSzPct val="62000"/>
              <a:buFont typeface="Symbol" charset="2"/>
              <a:buChar char="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Diction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0" algn="just">
              <a:lnSpc>
                <a:spcPct val="97000"/>
              </a:lnSpc>
              <a:buNone/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0" algn="just">
              <a:lnSpc>
                <a:spcPct val="97000"/>
              </a:lnSpc>
              <a:buNone/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"/>
                <a:ea typeface="HG Mincho Light J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0" algn="just">
              <a:lnSpc>
                <a:spcPct val="97000"/>
              </a:lnSpc>
              <a:buNone/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"/>
                <a:ea typeface="HG Mincho Light J"/>
              </a:rPr>
              <a:t>De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 algn="just">
              <a:lnSpc>
                <a:spcPct val="97000"/>
              </a:lnSpc>
              <a:buClr>
                <a:srgbClr val="ffffff"/>
              </a:buClr>
              <a:buSzPct val="62000"/>
              <a:buFont typeface="Symbol" charset="2"/>
              <a:buChar char="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TLS refinement in REFMAC5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 algn="just">
              <a:lnSpc>
                <a:spcPct val="97000"/>
              </a:lnSpc>
              <a:buClr>
                <a:srgbClr val="ffffff"/>
              </a:buClr>
              <a:buSzPct val="62000"/>
              <a:buFont typeface="Symbol" charset="2"/>
              <a:buChar char=""/>
              <a:tabLst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SKETC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0" algn="just">
              <a:lnSpc>
                <a:spcPct val="97000"/>
              </a:lnSpc>
              <a:buNone/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0" algn="just">
              <a:lnSpc>
                <a:spcPct val="97000"/>
              </a:lnSpc>
              <a:buNone/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"/>
                <a:ea typeface="HG Mincho Light J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0" algn="just">
              <a:lnSpc>
                <a:spcPct val="97000"/>
              </a:lnSpc>
              <a:buNone/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"/>
                <a:ea typeface="HG Mincho Light J"/>
              </a:rPr>
              <a:t>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0" algn="just">
              <a:lnSpc>
                <a:spcPct val="97000"/>
              </a:lnSpc>
              <a:buNone/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What to do with outpu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3720" y="1452600"/>
            <a:ext cx="91630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Check R</a:t>
            </a:r>
            <a:r>
              <a:rPr b="1" lang="en-GB" sz="24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free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and TLS parameters for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Check TLS parameters to see if there is any dominant dis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Pass XYZOUT and TLSOUT through TLSANL f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Example GAPD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1240" y="2192400"/>
            <a:ext cx="8481960" cy="30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52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Glyceraldehyde-3-phosphate dehydrogenase from </a:t>
            </a:r>
            <a:r>
              <a:rPr b="1" i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Sulfolobus solfataricus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(Isupov et al., (1999) J. Mol. Biol., 291, 651-6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52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340 amino aci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52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2 chains in asymmetric unit (O and Q), each molecule has NAD-binding and catalytic domai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52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i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P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4</a:t>
            </a:r>
            <a:r>
              <a:rPr b="1" lang="en-GB" sz="2600" spc="-1" strike="noStrike" baseline="-22000">
                <a:solidFill>
                  <a:srgbClr val="ffffff"/>
                </a:solidFill>
                <a:latin typeface="Bookman"/>
                <a:ea typeface="HG Mincho Light J"/>
              </a:rPr>
              <a:t>1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2</a:t>
            </a:r>
            <a:r>
              <a:rPr b="1" lang="en-GB" sz="2600" spc="-1" strike="noStrike" baseline="-22000">
                <a:solidFill>
                  <a:srgbClr val="ffffff"/>
                </a:solidFill>
                <a:latin typeface="Bookman"/>
                <a:ea typeface="HG Mincho Light J"/>
              </a:rPr>
              <a:t>1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2, data to 2.05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GAPDH before and after T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8560" y="2373480"/>
            <a:ext cx="620568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TLS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R 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R</a:t>
            </a:r>
            <a:r>
              <a:rPr b="1" lang="en-GB" sz="32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free</a:t>
            </a:r>
            <a:r>
              <a:rPr b="1" lang="en-GB" sz="32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2.9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9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1.4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5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1.1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4/NCS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2.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Refinement GAPD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0080" y="1633680"/>
            <a:ext cx="763488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Model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TLS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R 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R</a:t>
            </a:r>
            <a:r>
              <a:rPr b="1" lang="en-GB" sz="32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free</a:t>
            </a:r>
            <a:r>
              <a:rPr b="1" lang="en-GB" sz="32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iso/rB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3.6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30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ani/rB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2.9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9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ani/rB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1.3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6.8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ani/rB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1.1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6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iso/2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30.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3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ani/2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9.5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35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ani/2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5.1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9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ani/2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4.4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8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4800" y="6470640"/>
            <a:ext cx="8970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ookman"/>
                <a:ea typeface="HG Mincho Light J"/>
              </a:rPr>
              <a:t>iso = isotropic scaling; ani = anisotropic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Bookman"/>
                <a:ea typeface="HG Mincho Light J"/>
              </a:rPr>
              <a:t>rB = TLS refinement starting from refined Bs; 20 =  TLS refinement starting from Bs fixed to 20 </a:t>
            </a:r>
            <a:r>
              <a:rPr b="1" lang="en-GB" sz="16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Å</a:t>
            </a:r>
            <a:r>
              <a:rPr b="0" lang="en-GB" sz="1600" spc="-1" strike="noStrike" baseline="25000">
                <a:solidFill>
                  <a:srgbClr val="ffffff"/>
                </a:solidFill>
                <a:latin typeface="Bookman L"/>
                <a:ea typeface="HG Mincho Light J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L"/>
              </a:rPr>
              <a:t>Contributions to equivalent isotropic 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52360" y="1300320"/>
            <a:ext cx="7797960" cy="60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L"/>
              </a:rPr>
              <a:t>Screw ax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179360"/>
            <a:ext cx="5140440" cy="491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70520" y="1179360"/>
            <a:ext cx="5110200" cy="4913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3360" y="6335640"/>
            <a:ext cx="952488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Three translations together with three screw-displacements along three mutually perpendicular non-intersecting a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Bookman"/>
              </a:rPr>
              <a:t>Example G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8040" y="1587600"/>
            <a:ext cx="81417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1" marL="457200">
              <a:lnSpc>
                <a:spcPct val="97000"/>
              </a:lnSpc>
              <a:buClr>
                <a:srgbClr val="ffffff"/>
              </a:buClr>
              <a:buSzPct val="52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Transcription  regulator from </a:t>
            </a:r>
            <a:r>
              <a:rPr b="1" i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Bacillus subtilis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(Ducrois et al., (2001) J. Mol. Biol., 306, 759-71)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buClr>
                <a:srgbClr val="ffffff"/>
              </a:buClr>
              <a:buSzPct val="52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74 amino aci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buClr>
                <a:srgbClr val="ffffff"/>
              </a:buClr>
              <a:buSzPct val="52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Six chains A-F in asymmetric un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7000"/>
              </a:lnSpc>
              <a:buClr>
                <a:srgbClr val="ffffff"/>
              </a:buClr>
              <a:buSzPct val="52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C2, data to 2.05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13280" y="3386160"/>
            <a:ext cx="42339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Bookman"/>
              </a:rPr>
              <a:t>Refinement G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800" y="2298600"/>
            <a:ext cx="943200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Model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TLS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NCS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R 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R</a:t>
            </a:r>
            <a:r>
              <a:rPr b="1" lang="en-GB" sz="32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free</a:t>
            </a:r>
            <a:r>
              <a:rPr b="1" lang="en-GB" sz="32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cc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Bookman"/>
                <a:ea typeface="HG Mincho Light J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No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1.9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9.3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.5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Yes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2.5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30.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.553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No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1.3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7.1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.510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4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6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Yes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1.4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27.2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0.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tabLst>
                <a:tab algn="l" pos="0"/>
                <a:tab algn="l" pos="720720"/>
                <a:tab algn="l" pos="1444680"/>
                <a:tab algn="l" pos="2168640"/>
                <a:tab algn="l" pos="2892600"/>
                <a:tab algn="l" pos="3616200"/>
                <a:tab algn="l" pos="4343400"/>
                <a:tab algn="l" pos="5064120"/>
                <a:tab algn="l" pos="5788080"/>
                <a:tab algn="l" pos="6512040"/>
                <a:tab algn="l" pos="7236000"/>
                <a:tab algn="l" pos="7959600"/>
                <a:tab algn="l" pos="868680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Contribution to equivalent isotropic 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11320" y="1239840"/>
            <a:ext cx="788508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Bs from NCS related chai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33640" y="1360440"/>
            <a:ext cx="7650000" cy="58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588960" y="1631520"/>
            <a:ext cx="8607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92240" indent="-1296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ookman"/>
                <a:ea typeface="HG Mincho Light J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-1296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"/>
                <a:ea typeface="HG Mincho Light J"/>
              </a:rPr>
              <a:t>General aspects of refine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-1296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"/>
                <a:ea typeface="HG Mincho Light J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-1296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"/>
                <a:ea typeface="HG Mincho Light J"/>
              </a:rPr>
              <a:t>overview of REFMAC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Summary T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3720" y="1452600"/>
            <a:ext cx="91630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TLS parameterization allows to partly take into account anisotropic motions at modest resolution (&gt; 3.5 Å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TLS refinement might improve refinement statistics of several per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TLS refinement in REFMAC5 is fast and therefore can be used routin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Selected topic 2: diction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8607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The use of prior knowledge requires its organized stor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$CCP4/html/mon_lib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www.ysbl.york.ac.uk/~alexei/dictionar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Monomer de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39440" y="1552320"/>
            <a:ext cx="8607240" cy="58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REFMAC5 requires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Bookman"/>
                <a:ea typeface="HG Mincho Light J"/>
              </a:rPr>
              <a:t>complete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chemical description of all monomers (any molecular entity) present in the input coordinat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About 2000 common monomers are already present ($CLIBD_MON = $CCP4/lib/data/monom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Monomer and atoms identif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Element symb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Energy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Partial char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Covalent bonds (target values and S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Torsion angles (target values and S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Chiral cen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Pla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Monomer libr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5640" y="1589040"/>
            <a:ext cx="86076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$CCP4/lib/data/monomer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ener_lib.cif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-definition of atom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mon_lib_com.cif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-definition of links and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mon_lib_list.html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-missing file in version 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0/,1/,...  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-definition of various mon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Description of mono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755640" y="1589040"/>
            <a:ext cx="86076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In the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*/###.c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For every monomer contain catag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_chem_comp_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_chem_comp_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_chem_comp_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_chem_comp_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_chem_comp_ch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_chem_comp_plane_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Bookman"/>
              </a:rPr>
              <a:t>Monomer library (_chem_comp_ato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55640" y="1564920"/>
            <a:ext cx="86076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4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loop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atom.comp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atom.atom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atom.type_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atom.type_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atom.partial_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N    N    NH1      -0.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H    H    HNH1      0.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A   C    CH1       0.0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HA   H    HCH1      0.0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B   C    CH3      -0.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HB1  H    HCH3      0.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HB2  H    HCH3      0.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HB3  H    HCH3      0.0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    C    C         0.3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O    O    O        -0.4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Bookman"/>
              </a:rPr>
              <a:t>Monomer library (_chem_comp_bond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84200" y="1579680"/>
            <a:ext cx="912168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4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loop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bond.comp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bond.atom_i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bond.atom_i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bond.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bond.value_d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_chem_comp_bond.value_dist_e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N    H       single     0.860    0.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N    CA      single     1.458    0.0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A   HA      single     0.980    0.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A   CB      single     1.521    0.0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B   HB1     single     0.960    0.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B   HB2     single     0.960    0.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B   HB3     single     0.960    0.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A   C       single     1.525    0.0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ALA      C    O       double     1.231    0.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5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  <a:ea typeface="HG Mincho Light J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What happens when you run REFMAC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23360" y="2313000"/>
            <a:ext cx="912204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94000"/>
              </a:lnSpc>
              <a:buNone/>
              <a:tabLst>
                <a:tab algn="l" pos="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54000"/>
              <a:buFont typeface="Symbol" charset="2"/>
              <a:buChar char=""/>
              <a:tabLst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You have a monomer for which there is a complet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The program carries on and takes everything from </a:t>
            </a: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the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54000"/>
              <a:buFont typeface="Symbol" charset="2"/>
              <a:buChar char=""/>
              <a:tabLst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"/>
                <a:ea typeface="HG Mincho Light J"/>
              </a:rPr>
              <a:t>You have a monomer for which there is only a minimal description or no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317520"/>
                <a:tab algn="l" pos="766800"/>
                <a:tab algn="l" pos="1216080"/>
                <a:tab algn="l" pos="1665360"/>
                <a:tab algn="l" pos="2114640"/>
                <a:tab algn="l" pos="2563920"/>
                <a:tab algn="l" pos="3013200"/>
                <a:tab algn="l" pos="3462480"/>
                <a:tab algn="l" pos="3911760"/>
                <a:tab algn="l" pos="4361040"/>
                <a:tab algn="l" pos="4809960"/>
                <a:tab algn="l" pos="5259240"/>
                <a:tab algn="l" pos="5708520"/>
                <a:tab algn="l" pos="6157800"/>
                <a:tab algn="l" pos="6607080"/>
                <a:tab algn="l" pos="7056360"/>
                <a:tab algn="l" pos="7505640"/>
                <a:tab algn="l" pos="7954920"/>
                <a:tab algn="l" pos="8404200"/>
                <a:tab algn="l" pos="8853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The program tries to generate a complete library </a:t>
            </a: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description and then STOPS for you to check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SKETC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84200" y="1603440"/>
            <a:ext cx="912168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If a monomer is not in the library then SKETCHER can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just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SKETCHER is a graphical interface to LIBCHECK which creates new monomer library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88960" y="1631520"/>
            <a:ext cx="8607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92240" indent="-1296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ookman"/>
                <a:ea typeface="HG Mincho Light J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-1296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"/>
                <a:ea typeface="HG Mincho Light J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9860000">
            <a:off x="460080" y="3029040"/>
            <a:ext cx="912168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2760" indent="-21276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0" lang="en-US" sz="3200" spc="-1" strike="noStrike">
                <a:solidFill>
                  <a:srgbClr val="ff3333"/>
                </a:solidFill>
                <a:latin typeface="Arial"/>
                <a:ea typeface="HG Mincho Light J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HG Mincho Light J"/>
              </a:rPr>
              <a:t>IF YOU WERE NOT IN SAN ANTONIO (ACA2002) I'M AFRAID YOU'LL HAVE TO WAIT FOR THE NEXT OCCA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A common problem in physical sci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1798560"/>
            <a:ext cx="860724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>
              <a:lnSpc>
                <a:spcPct val="97000"/>
              </a:lnSpc>
              <a:buClr>
                <a:srgbClr val="ffffff"/>
              </a:buClr>
              <a:buSzPct val="6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Set experimental values of quantity q (q</a:t>
            </a:r>
            <a:r>
              <a:rPr b="1" lang="en-GB" sz="2600" spc="-1" strike="noStrike" baseline="-25000">
                <a:solidFill>
                  <a:srgbClr val="ffffff"/>
                </a:solidFill>
                <a:latin typeface="Book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,</a:t>
            </a:r>
            <a:r>
              <a:rPr b="1" lang="en-GB" sz="2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GB" sz="2600" spc="-1" strike="noStrike" baseline="-25000">
                <a:solidFill>
                  <a:srgbClr val="ffffff"/>
                </a:solidFill>
                <a:latin typeface="Bookman"/>
                <a:ea typeface="HG Mincho Light J"/>
              </a:rPr>
              <a:t>E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>
              <a:lnSpc>
                <a:spcPct val="97000"/>
              </a:lnSpc>
              <a:buClr>
                <a:srgbClr val="ffffff"/>
              </a:buClr>
              <a:buSzPct val="6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Model M(a</a:t>
            </a:r>
            <a:r>
              <a:rPr b="1" lang="en-GB" sz="2600" spc="-1" strike="noStrike" baseline="-25000">
                <a:solidFill>
                  <a:srgbClr val="ffffff"/>
                </a:solidFill>
                <a:latin typeface="Bookman"/>
                <a:ea typeface="HG Mincho Light J"/>
              </a:rPr>
              <a:t>I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,b</a:t>
            </a:r>
            <a:r>
              <a:rPr b="1" lang="en-GB" sz="2600" spc="-1" strike="noStrike" baseline="-25000">
                <a:solidFill>
                  <a:srgbClr val="ffffff"/>
                </a:solidFill>
                <a:latin typeface="Bookman"/>
                <a:ea typeface="HG Mincho Light J"/>
              </a:rPr>
              <a:t>I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,c</a:t>
            </a:r>
            <a:r>
              <a:rPr b="1" lang="en-GB" sz="2600" spc="-1" strike="noStrike" baseline="-25000">
                <a:solidFill>
                  <a:srgbClr val="ffffff"/>
                </a:solidFill>
                <a:latin typeface="Bookman"/>
                <a:ea typeface="HG Mincho Light J"/>
              </a:rPr>
              <a:t>I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) </a:t>
            </a:r>
            <a:r>
              <a:rPr b="1" lang="en-GB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 q</a:t>
            </a:r>
            <a:r>
              <a:rPr b="1" lang="en-GB" sz="2600" spc="-1" strike="noStrike" baseline="-25000">
                <a:solidFill>
                  <a:srgbClr val="ffffff"/>
                </a:solidFill>
                <a:latin typeface="Bookman"/>
                <a:ea typeface="HG Mincho Light J"/>
              </a:rPr>
              <a:t>I</a:t>
            </a:r>
            <a:r>
              <a:rPr b="1" lang="en-GB" sz="2600" spc="-1" strike="noStrike" baseline="25000">
                <a:solidFill>
                  <a:srgbClr val="ffffff"/>
                </a:solidFill>
                <a:latin typeface="Bookman"/>
                <a:ea typeface="HG Mincho Light J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Estim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6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Best model, i.e. M(a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B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,b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B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,c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B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) which is most consistent with the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buClr>
                <a:srgbClr val="ffffff"/>
              </a:buClr>
              <a:buSzPct val="64000"/>
              <a:buFont typeface="Symbol" charset="2"/>
              <a:buChar char=""/>
              <a:tabLst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The accuracy of (a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B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,b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B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,c</a:t>
            </a:r>
            <a:r>
              <a:rPr b="1" lang="en-GB" sz="2600" spc="-1" strike="noStrike" baseline="-33000">
                <a:solidFill>
                  <a:srgbClr val="ffffff"/>
                </a:solidFill>
                <a:latin typeface="Bookman"/>
                <a:ea typeface="HG Mincho Light J"/>
              </a:rPr>
              <a:t>B</a:t>
            </a:r>
            <a:r>
              <a:rPr b="1" lang="en-GB" sz="2600" spc="-1" strike="noStrike">
                <a:solidFill>
                  <a:srgbClr val="ffffff"/>
                </a:solidFill>
                <a:latin typeface="Bookman"/>
                <a:ea typeface="HG Mincho Light J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59720" y="3276720"/>
            <a:ext cx="201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  <a:ea typeface="HG Mincho Light J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88960" y="1631520"/>
            <a:ext cx="8607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192240" indent="-1296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Bookman"/>
                <a:ea typeface="HG Mincho Light J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2240" indent="-1296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"/>
                <a:ea typeface="HG Mincho Light J"/>
              </a:rPr>
              <a:t>Future (near and f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44400" indent="-214200" algn="ctr">
              <a:lnSpc>
                <a:spcPct val="97000"/>
              </a:lnSpc>
              <a:tabLst>
                <a:tab algn="l" pos="0"/>
                <a:tab algn="l" pos="297000"/>
                <a:tab algn="l" pos="746280"/>
                <a:tab algn="l" pos="1195560"/>
                <a:tab algn="l" pos="1644480"/>
                <a:tab algn="l" pos="2093760"/>
                <a:tab algn="l" pos="2543040"/>
                <a:tab algn="l" pos="2992320"/>
                <a:tab algn="l" pos="3441600"/>
                <a:tab algn="l" pos="3890880"/>
                <a:tab algn="l" pos="4340160"/>
                <a:tab algn="l" pos="4789440"/>
                <a:tab algn="l" pos="5238720"/>
                <a:tab algn="l" pos="5688000"/>
                <a:tab algn="l" pos="6137280"/>
                <a:tab algn="l" pos="6586560"/>
                <a:tab algn="l" pos="7035840"/>
                <a:tab algn="l" pos="7485120"/>
                <a:tab algn="l" pos="7934400"/>
                <a:tab algn="l" pos="8383680"/>
                <a:tab algn="l" pos="8832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3720" y="1452600"/>
            <a:ext cx="916308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Fast calculation of complete Hessian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Refinement along internal degrees of free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Refinement using anomalou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Bayesian refinement of twinn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Lots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Fu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68400" y="1452600"/>
            <a:ext cx="8618400" cy="64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12760" indent="-21276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Bookman"/>
                <a:ea typeface="HG Mincho Light J"/>
              </a:rPr>
              <a:t>Garib N. Murshudov, Yor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Alexei Vaguine, Y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Martyn Winn*, CCP4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4200" indent="-21420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Liz Potterton*, Y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Eleanor Dodson, Y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Kim Hendrik, EBI Camb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people who gave their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4200" indent="-21420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* </a:t>
            </a: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kindly provided many of the slides presented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i="1" lang="en-GB" sz="2600" spc="-1" strike="noStrike">
                <a:solidFill>
                  <a:srgbClr val="ffff00"/>
                </a:solidFill>
                <a:latin typeface="Bookman"/>
                <a:ea typeface="HG Mincho Light J"/>
              </a:rPr>
              <a:t>Financial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CCP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buClr>
                <a:srgbClr val="ffffff"/>
              </a:buClr>
              <a:buSzPct val="101000"/>
              <a:buFont typeface="Symbol" charset="2"/>
              <a:buChar char=""/>
              <a:tabLst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Wellcome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-212760" algn="just">
              <a:lnSpc>
                <a:spcPct val="97000"/>
              </a:lnSpc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Peo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Model fit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" y="1617480"/>
            <a:ext cx="9767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man"/>
                <a:ea typeface="HG Mincho Light J"/>
              </a:rPr>
              <a:t>Experiment              Mathematical model</a:t>
            </a:r>
            <a:r>
              <a:rPr b="1" i="1" lang="en-GB" sz="28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473200" y="2556000"/>
            <a:ext cx="7173000" cy="2969280"/>
            <a:chOff x="2473200" y="2556000"/>
            <a:chExt cx="7173000" cy="2969280"/>
          </a:xfrm>
        </p:grpSpPr>
        <p:sp>
          <p:nvSpPr>
            <p:cNvPr id="52" name=""/>
            <p:cNvSpPr/>
            <p:nvPr/>
          </p:nvSpPr>
          <p:spPr>
            <a:xfrm>
              <a:off x="2473200" y="4030560"/>
              <a:ext cx="922320" cy="1800"/>
            </a:xfrm>
            <a:prstGeom prst="line">
              <a:avLst/>
            </a:prstGeom>
            <a:ln w="360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5730840" y="3033720"/>
              <a:ext cx="982800" cy="704880"/>
            </a:xfrm>
            <a:prstGeom prst="line">
              <a:avLst/>
            </a:prstGeom>
            <a:ln w="360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20160" y="2556000"/>
              <a:ext cx="451332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"/>
                  <a:ea typeface="HG Mincho Light J"/>
                </a:rPr>
                <a:t>Generation of additional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86600" y="4038480"/>
              <a:ext cx="841320" cy="5040"/>
            </a:xfrm>
            <a:prstGeom prst="line">
              <a:avLst/>
            </a:prstGeom>
            <a:ln w="360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74880" y="3824280"/>
              <a:ext cx="147132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"/>
                  <a:ea typeface="HG Mincho Light J"/>
                </a:rPr>
                <a:t>In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99160" y="4444920"/>
              <a:ext cx="801720" cy="588960"/>
            </a:xfrm>
            <a:prstGeom prst="line">
              <a:avLst/>
            </a:prstGeom>
            <a:ln w="360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84400" y="5170320"/>
              <a:ext cx="12564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ookman"/>
                  <a:ea typeface="HG Mincho Light J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Model fitting in crystallograph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5400" y="1901520"/>
            <a:ext cx="8607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experimental  (I,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Bookman"/>
                <a:ea typeface="HG Mincho Light J"/>
              </a:rPr>
              <a:t>I </a:t>
            </a: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)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 (F,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Bookman"/>
                <a:ea typeface="HG Mincho Light J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model (heavy atoms, protein, 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F</a:t>
            </a:r>
            <a:r>
              <a:rPr b="1" lang="en-US" sz="2800" spc="-1" strike="noStrike" baseline="25000">
                <a:solidFill>
                  <a:srgbClr val="ffffff"/>
                </a:solidFill>
                <a:latin typeface="Bookman"/>
                <a:ea typeface="HG Mincho Light J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0" algn="ctr">
              <a:lnSpc>
                <a:spcPct val="97000"/>
              </a:lnSpc>
              <a:buNone/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26040" y="4187880"/>
            <a:ext cx="1440" cy="620640"/>
          </a:xfrm>
          <a:prstGeom prst="line">
            <a:avLst/>
          </a:prstGeom>
          <a:ln w="360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26040" y="2948040"/>
            <a:ext cx="1440" cy="665280"/>
          </a:xfrm>
          <a:prstGeom prst="line">
            <a:avLst/>
          </a:prstGeom>
          <a:ln w="360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105080" y="5670720"/>
            <a:ext cx="1985040" cy="1196640"/>
            <a:chOff x="4105080" y="5670720"/>
            <a:chExt cx="1985040" cy="1196640"/>
          </a:xfrm>
        </p:grpSpPr>
        <p:sp>
          <p:nvSpPr>
            <p:cNvPr id="65" name=""/>
            <p:cNvSpPr/>
            <p:nvPr/>
          </p:nvSpPr>
          <p:spPr>
            <a:xfrm>
              <a:off x="5092560" y="5670720"/>
              <a:ext cx="1800" cy="661680"/>
            </a:xfrm>
            <a:prstGeom prst="line">
              <a:avLst/>
            </a:prstGeom>
            <a:ln w="360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05080" y="6453360"/>
              <a:ext cx="19850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ookman"/>
                  <a:ea typeface="HG Mincho Light J"/>
                </a:rPr>
                <a:t>Best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279040" y="4343400"/>
            <a:ext cx="201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Handwriting"/>
                <a:ea typeface="HG Mincho Light J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1640" y="5140440"/>
            <a:ext cx="3191040" cy="1440"/>
          </a:xfrm>
          <a:prstGeom prst="line">
            <a:avLst/>
          </a:prstGeom>
          <a:ln w="360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01640" y="2611440"/>
            <a:ext cx="1800" cy="253368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1640" y="2600280"/>
            <a:ext cx="892440" cy="1800"/>
          </a:xfrm>
          <a:prstGeom prst="line">
            <a:avLst/>
          </a:prstGeom>
          <a:ln w="360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Key aspects in model fit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63520" y="2390400"/>
            <a:ext cx="8607600" cy="25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algn="just">
              <a:lnSpc>
                <a:spcPct val="97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33000"/>
              <a:buFont typeface="Symbol" charset="2"/>
              <a:buChar char="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Parameterization of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33000"/>
              <a:buFont typeface="Symbol" charset="2"/>
              <a:buChar char="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Type of res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33000"/>
              <a:buFont typeface="Symbol" charset="2"/>
              <a:buChar char="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Type of min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7000"/>
              </a:lnSpc>
              <a:buClr>
                <a:srgbClr val="ffffff"/>
              </a:buClr>
              <a:buSzPct val="133000"/>
              <a:buFont typeface="Symbol" charset="2"/>
              <a:buChar char="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Bookman"/>
                <a:ea typeface="HG Mincho Light J"/>
              </a:rPr>
              <a:t>Prior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"/>
              </a:rPr>
              <a:t>Bayesian approac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725400" y="1832040"/>
            <a:ext cx="8607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The best model is the one which has highest probability given a set of observations and a certain prior knowled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"/>
                <a:ea typeface="HG Mincho Light J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"/>
                <a:ea typeface="HG Mincho Light J"/>
              </a:rPr>
              <a:t>BAYES'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ctr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man"/>
                <a:ea typeface="HG Mincho Light J"/>
              </a:rPr>
              <a:t>P(M;O)=P(M)P(O;M)/P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31880" y="6410160"/>
            <a:ext cx="73692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Probability Theory: The Logic of Science by E.T.Jay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Bookman"/>
                <a:ea typeface="HG Mincho Light J"/>
              </a:rPr>
              <a:t>http://bayes.wustl.ed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1480" y="204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Bookman"/>
              </a:rPr>
              <a:t>Application of Bayes theor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119240"/>
            <a:ext cx="10080720" cy="1440"/>
          </a:xfrm>
          <a:prstGeom prst="line">
            <a:avLst/>
          </a:prstGeom>
          <a:ln w="36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39440" y="1592280"/>
            <a:ext cx="8607240" cy="55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Screening for disease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On average 1 person in 5000 dies because of D. P(D)=0.0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Let P be the event of a positive test for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P(P;D)=0.9, i.e. 90% of the times the screening identifies the dis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P(P;notD)=0.005 (5 in 1000 persons) false posi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What is the probability of having the desease if the test says it is positi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P(D;P)=P(D)P(P;D)/P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P(P)=P(P;D)P(D)+P(P;notD)P(notD)=(0.9)(0.0002)+(0.005)(1-0.0002)=0.005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P(D;P)=(0.0002)(0.9)/(0.005179)=0.03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ookman"/>
                <a:ea typeface="HG Mincho Light J"/>
              </a:rPr>
              <a:t>Less than 3.5% of persons diagnosed to have the disease do actually have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8760" indent="-216000" algn="just">
              <a:lnSpc>
                <a:spcPct val="97000"/>
              </a:lnSpc>
              <a:tabLst>
                <a:tab algn="l" pos="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Bookman L"/>
                <a:ea typeface="HG Mincho Light J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d srl</cp:lastModifiedBy>
  <dcterms:modified xsi:type="dcterms:W3CDTF">2002-06-11T16:35:40Z</dcterms:modified>
  <cp:revision>3</cp:revision>
  <dc:subject/>
  <dc:title>Macromolecular refinement with  REFMAC5 and SKETCHER of the  CCP4 suite </dc:title>
</cp:coreProperties>
</file>