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53C6-7C0B-402A-B6FE-B33953C1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F22-508C-4871-81B6-EB96F463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8E2-E921-402E-A928-12EFF3A1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836-F4A9-476B-BF1D-D9DDDC1D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FA2-50F9-4AF7-8377-E91F1330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B477-B6EA-4E2B-BD74-68C39FD7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11A-ABA0-4F82-B214-FED57E75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9EF-BA5B-4A6B-8FDE-0CB7CD60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3D1-1939-400E-A2FA-A1F041A3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8E6-206F-495F-B59E-8DEA31EF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949-FD08-489B-9BF3-D5BFA62F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F62-C74E-4C69-95B4-240AEE9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50B-2F3F-4650-92C4-52C3913B6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M.I.R.(A.S.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M. Pr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M.I.S.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fference Patter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-correlation of t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ffer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ween native and “derivative”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of  Harker vectors arising for each site due to spacegroup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cross-vectors between each of the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tes at “special” positions are com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ce Patter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d-patt_ptcl" descr=""/>
          <p:cNvPicPr/>
          <p:nvPr/>
        </p:nvPicPr>
        <p:blipFill>
          <a:blip r:embed="rId1"/>
          <a:stretch/>
        </p:blipFill>
        <p:spPr>
          <a:xfrm>
            <a:off x="685800" y="2193840"/>
            <a:ext cx="3809880" cy="3917880"/>
          </a:xfrm>
          <a:prstGeom prst="rect">
            <a:avLst/>
          </a:prstGeom>
          <a:ln w="0">
            <a:noFill/>
          </a:ln>
        </p:spPr>
      </p:pic>
      <p:pic>
        <p:nvPicPr>
          <p:cNvPr id="68" name="ptclhsec" descr=""/>
          <p:cNvPicPr/>
          <p:nvPr/>
        </p:nvPicPr>
        <p:blipFill>
          <a:blip r:embed="rId2"/>
          <a:stretch/>
        </p:blipFill>
        <p:spPr>
          <a:xfrm>
            <a:off x="4648320" y="2698920"/>
            <a:ext cx="3809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isomorph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at crystal 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the unit cell - sometime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are more significant as resolution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xcon" descr=""/>
          <p:cNvPicPr/>
          <p:nvPr/>
        </p:nvPicPr>
        <p:blipFill>
          <a:blip r:embed="rId1"/>
          <a:stretch/>
        </p:blipFill>
        <p:spPr>
          <a:xfrm>
            <a:off x="4818240" y="1981080"/>
            <a:ext cx="346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HA sub-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simple diff-Pattersons with Harkers,  solve by inspection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s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 handful of si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elx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Patterson search or direct methods), or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anta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Direct method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sites ?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hake’n’ 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e  needed with reflection selecti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xs inp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ject: autostruct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arent transfer between pa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CP4i interfaces for other package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helx/xf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helx_if" descr=""/>
          <p:cNvPicPr/>
          <p:nvPr/>
        </p:nvPicPr>
        <p:blipFill>
          <a:blip r:embed="rId1"/>
          <a:stretch/>
        </p:blipFill>
        <p:spPr>
          <a:xfrm>
            <a:off x="1901880" y="1066680"/>
            <a:ext cx="5338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elxs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shelx_soln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 the sites refine against the data? (u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lpha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th centric zones if possible and refine occupanc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e the sites consistent with the diff-Patterson ? (us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ecto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&amp; graphics display and/or refine wit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vecre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ll phases from the sites cross phase another derivativ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ment of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lphare_sir" descr=""/>
          <p:cNvPicPr/>
          <p:nvPr/>
        </p:nvPicPr>
        <p:blipFill>
          <a:blip r:embed="rId1"/>
          <a:stretch/>
        </p:blipFill>
        <p:spPr>
          <a:xfrm>
            <a:off x="1047600" y="1295280"/>
            <a:ext cx="3589560" cy="4876920"/>
          </a:xfrm>
          <a:prstGeom prst="rect">
            <a:avLst/>
          </a:prstGeom>
          <a:ln w="0">
            <a:noFill/>
          </a:ln>
        </p:spPr>
      </p:pic>
      <p:pic>
        <p:nvPicPr>
          <p:cNvPr id="83" name="Rcull_ptclsir" descr=""/>
          <p:cNvPicPr/>
          <p:nvPr/>
        </p:nvPicPr>
        <p:blipFill>
          <a:blip r:embed="rId2"/>
          <a:stretch/>
        </p:blipFill>
        <p:spPr>
          <a:xfrm>
            <a:off x="4782960" y="1295280"/>
            <a:ext cx="3103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/self ph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ilar to difference map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,Ф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nient for solution of further derivatives once one or more have been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tains chirality and origin across derivativ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ware ghost peaks and of pseudo-symmetr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 phasing of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eriv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324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done directly with CCP4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lph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lphare_sir" descr=""/>
          <p:cNvPicPr/>
          <p:nvPr/>
        </p:nvPicPr>
        <p:blipFill>
          <a:blip r:embed="rId1"/>
          <a:stretch/>
        </p:blipFill>
        <p:spPr>
          <a:xfrm>
            <a:off x="711360" y="1143000"/>
            <a:ext cx="3757320" cy="5105520"/>
          </a:xfrm>
          <a:prstGeom prst="rect">
            <a:avLst/>
          </a:prstGeom>
          <a:ln w="0">
            <a:noFill/>
          </a:ln>
        </p:spPr>
      </p:pic>
      <p:pic>
        <p:nvPicPr>
          <p:cNvPr id="89" name="PtCNdfou" descr=""/>
          <p:cNvPicPr/>
          <p:nvPr/>
        </p:nvPicPr>
        <p:blipFill>
          <a:blip r:embed="rId2"/>
          <a:stretch/>
        </p:blipFill>
        <p:spPr>
          <a:xfrm>
            <a:off x="4572000" y="2257560"/>
            <a:ext cx="3809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nly generally applicable way of  solving macromolecular cryst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liance on homologou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liance on recombinant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ce of specific residues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ombined with M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ment of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fine sites using reliable data over the resolution interval for which the derivative is isomorpho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full use of centric zones (for which Ф is constrained to 0 or π or  ± π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tain chirality and use Anomalous data to select correct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nitor lack of closure (eg. Cullis 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ment of all deriv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correct hand using anomalous occup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lphare_mir" descr=""/>
          <p:cNvPicPr/>
          <p:nvPr/>
        </p:nvPicPr>
        <p:blipFill>
          <a:blip r:embed="rId1"/>
          <a:stretch/>
        </p:blipFill>
        <p:spPr>
          <a:xfrm>
            <a:off x="863640" y="914400"/>
            <a:ext cx="3452760" cy="4876920"/>
          </a:xfrm>
          <a:prstGeom prst="rect">
            <a:avLst/>
          </a:prstGeom>
          <a:ln w="0">
            <a:noFill/>
          </a:ln>
        </p:spPr>
      </p:pic>
      <p:pic>
        <p:nvPicPr>
          <p:cNvPr id="95" name="ha-hand" descr=""/>
          <p:cNvPicPr/>
          <p:nvPr/>
        </p:nvPicPr>
        <p:blipFill>
          <a:blip r:embed="rId2"/>
          <a:stretch/>
        </p:blipFill>
        <p:spPr>
          <a:xfrm>
            <a:off x="4648320" y="2173320"/>
            <a:ext cx="38098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ha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sure all significant sites are account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lcul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phases for all of the reflections which have a derivative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ware of common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ware of correlated non-isomorph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void overestimation of the FOM’s - this will compromise density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6019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important to have correct FOM’s as these influence subsequent phase impr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ir_fom" descr=""/>
          <p:cNvPicPr/>
          <p:nvPr/>
        </p:nvPicPr>
        <p:blipFill>
          <a:blip r:embed="rId1"/>
          <a:stretch/>
        </p:blipFill>
        <p:spPr>
          <a:xfrm>
            <a:off x="1039680" y="1143000"/>
            <a:ext cx="3102120" cy="4876920"/>
          </a:xfrm>
          <a:prstGeom prst="rect">
            <a:avLst/>
          </a:prstGeom>
          <a:ln w="0">
            <a:noFill/>
          </a:ln>
        </p:spPr>
      </p:pic>
      <p:pic>
        <p:nvPicPr>
          <p:cNvPr id="101" name="fft_miras" descr=""/>
          <p:cNvPicPr/>
          <p:nvPr/>
        </p:nvPicPr>
        <p:blipFill>
          <a:blip r:embed="rId2"/>
          <a:stretch/>
        </p:blipFill>
        <p:spPr>
          <a:xfrm>
            <a:off x="4648320" y="1952640"/>
            <a:ext cx="38098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(MIRAS)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ap1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311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heavy atom sites to identify any Non-crystallographic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any large atoms already present in the protein - may need to truncate density interval for envelope determination if this is th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ll available modification techniques and check for solvent boundaries and secondary structur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nt flatt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AS phases inpu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dmsol" descr=""/>
          <p:cNvPicPr/>
          <p:nvPr/>
        </p:nvPicPr>
        <p:blipFill>
          <a:blip r:embed="rId1"/>
          <a:stretch/>
        </p:blipFill>
        <p:spPr>
          <a:xfrm>
            <a:off x="609480" y="2124000"/>
            <a:ext cx="3810240" cy="2914560"/>
          </a:xfrm>
          <a:prstGeom prst="rect">
            <a:avLst/>
          </a:prstGeom>
          <a:ln w="0">
            <a:noFill/>
          </a:ln>
        </p:spPr>
      </p:pic>
      <p:pic>
        <p:nvPicPr>
          <p:cNvPr id="109" name="dmsolfom" descr=""/>
          <p:cNvPicPr/>
          <p:nvPr/>
        </p:nvPicPr>
        <p:blipFill>
          <a:blip r:embed="rId2"/>
          <a:stretch/>
        </p:blipFill>
        <p:spPr>
          <a:xfrm>
            <a:off x="5002200" y="1143000"/>
            <a:ext cx="3102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nt flattened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map_solf" descr=""/>
          <p:cNvPicPr/>
          <p:nvPr/>
        </p:nvPicPr>
        <p:blipFill>
          <a:blip r:embed="rId1"/>
          <a:stretch/>
        </p:blipFill>
        <p:spPr>
          <a:xfrm>
            <a:off x="865080" y="1143000"/>
            <a:ext cx="741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CS aver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ors from HA sites –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indncs/profes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k from site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csmas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or automatically from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dmncs" descr=""/>
          <p:cNvPicPr/>
          <p:nvPr/>
        </p:nvPicPr>
        <p:blipFill>
          <a:blip r:embed="rId1"/>
          <a:stretch/>
        </p:blipFill>
        <p:spPr>
          <a:xfrm>
            <a:off x="685800" y="1225440"/>
            <a:ext cx="3809880" cy="4483080"/>
          </a:xfrm>
          <a:prstGeom prst="rect">
            <a:avLst/>
          </a:prstGeom>
          <a:ln w="0">
            <a:noFill/>
          </a:ln>
        </p:spPr>
      </p:pic>
      <p:pic>
        <p:nvPicPr>
          <p:cNvPr id="115" name="dmncsfom" descr=""/>
          <p:cNvPicPr/>
          <p:nvPr/>
        </p:nvPicPr>
        <p:blipFill>
          <a:blip r:embed="rId2"/>
          <a:stretch/>
        </p:blipFill>
        <p:spPr>
          <a:xfrm>
            <a:off x="5073480" y="1143000"/>
            <a:ext cx="2957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CS averaged (phase extended) m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map_ncsa" descr=""/>
          <p:cNvPicPr/>
          <p:nvPr/>
        </p:nvPicPr>
        <p:blipFill>
          <a:blip r:embed="rId1"/>
          <a:stretch/>
        </p:blipFill>
        <p:spPr>
          <a:xfrm>
            <a:off x="812880" y="1143000"/>
            <a:ext cx="7518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ruption of Nativ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 of native and “treated”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s available only to a limited resolution (in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of Heavy Atom compounds is a trial and erro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rystal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ase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tend phases to best data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nt flatten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olomon/d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and Histogrammic match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keletonization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/free atom mod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CS/multi-crystal averag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dm/dmmult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mated secondary structure search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ffea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d/Related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RAS -  hand ambiguity overcome by analysing density maps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api/oa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D – eg. on a derivitized crystal too non-isomorphous for SI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ne wavelength anomalous scattering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api/oa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Dermott G., Prince S.M., Freer A.A., Hawthornthwaite-Lawless A.M., Papiz M.Z., Cogdell R.J. &amp; Isaacs N.W. (1995) Crystal structure of an integral membrane light-harvesting complex from photosynthetic bacteria.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17-5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ein data bank deposition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KZU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e S.M., McDermott G., Freer A.A., Papiz M.Z., Lawless A.M. Cogdell R.J. &amp; Isaacs N.W. (1999) Derivative Manipulation in the Structure Solution of the Integral Membrane LH2 Complex.  Acta Cryst. 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1428-143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Obtain stable mother liquor or cryo-prote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Collect nat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Soak crystals (or co-crystallize) with Heavy Atom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Collect (derivative)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Scale soak-native and calculate difference (native-soak) Patterson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Solve heavy atom sub-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Repeat 3-6 to get a different set of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Calculate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aware of properties of HA salt (eg Silver Nitrate with Cl, Mercury Iodide/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ystallizatio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ein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syst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ak concentrations; 1-5mM, time; over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ak HA in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 native compar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soak to remove non-specific sites or manipulate existing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reening can be done at low resolution (4-5Å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 derivative data optimizing parameters at intermediate res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llect for anomalous scattering but choose wavelength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nimize systematic errors in native compari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use Native data as reference when internally scaling derivative data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cal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hods; Kraut’s method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hsc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, scale + (an)isotropic B (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calei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, local scaling 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tch for contrast effects at low resolution especially if no backsoaking wa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atch for non-isomorphism at higher re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hsca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raut’s method used (equalize Patterson origi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hscal" descr=""/>
          <p:cNvPicPr/>
          <p:nvPr/>
        </p:nvPicPr>
        <p:blipFill>
          <a:blip r:embed="rId1"/>
          <a:stretch/>
        </p:blipFill>
        <p:spPr>
          <a:xfrm>
            <a:off x="685800" y="1755720"/>
            <a:ext cx="3809880" cy="2887560"/>
          </a:xfrm>
          <a:prstGeom prst="rect">
            <a:avLst/>
          </a:prstGeom>
          <a:ln w="0">
            <a:noFill/>
          </a:ln>
        </p:spPr>
      </p:pic>
      <p:pic>
        <p:nvPicPr>
          <p:cNvPr id="60" name="riso_ptcl" descr=""/>
          <p:cNvPicPr/>
          <p:nvPr/>
        </p:nvPicPr>
        <p:blipFill>
          <a:blip r:embed="rId2"/>
          <a:stretch/>
        </p:blipFill>
        <p:spPr>
          <a:xfrm>
            <a:off x="5146560" y="990720"/>
            <a:ext cx="2811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Normal distribution plot (summary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cale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difference Patterson using only reliable data and choose contour levels 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y attention to Harker sections if there are 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maps over different resolution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eck anomalous difference Patt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18:01:54Z</dcterms:created>
  <dc:creator>JPD3</dc:creator>
  <dc:description/>
  <dc:language>en-US</dc:language>
  <cp:lastModifiedBy>Alun Ashton</cp:lastModifiedBy>
  <dcterms:modified xsi:type="dcterms:W3CDTF">2002-06-17T14:48:10Z</dcterms:modified>
  <cp:revision>15</cp:revision>
  <dc:subject/>
  <dc:title>MIR(A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cp4.ac.uk</vt:lpwstr>
  </property>
  <property fmtid="{D5CDD505-2E9C-101B-9397-08002B2CF9AE}" pid="9" name="LinkColor">
    <vt:r8>16711782</vt:r8>
  </property>
  <property fmtid="{D5CDD505-2E9C-101B-9397-08002B2CF9AE}" pid="10" name="MailAddress">
    <vt:lpwstr>a.w.ashton@dl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ccp4-home\public\ftp\pub\talks\aca2002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