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51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68B7B50-9443-40E4-937E-9AF7C402C66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nge – non ess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non essential for binary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– created on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A322CC7-41E7-4D6D-AB9D-D6DD31B4F8D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38320" y="870120"/>
            <a:ext cx="4606920" cy="3455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9080" y="4718160"/>
            <a:ext cx="5043600" cy="447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tcl/t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release s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ied to CCP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llowing talk was written by the current curator of CCP4i – Peter Bri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hy use ccp4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learn script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use somebody's out of date scri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ow to get sta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CP4i is installed with the ccp4 package as standard. No extra licensing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iling is usually required – though you will need tcl/tk – see CCP4i help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detai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CP4i window is broken into several distinct par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it in the meddle is deliberately fuzzy! It wasn’t that extra pint last n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to go into the bits in more detail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 off my choosing the correct modu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odules list is broken into very distinct parts. I actually didn’t realis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til I started to prepare this tal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ce you have chosen a module you are presented by a series of appropr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sks for the module. They are in theory even ordered in the most prob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er of usage. What you might also notice is that many tasks are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resented by the name of the underlying program. This is again deliber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times the underlying ccp4 program for a particular task can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CP4i tasks can also include many underlying programs chained together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filling in a task window there is but one golden ru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ART AT THE TO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isions you make at the top of the window will directly influence w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ed to fill in and even what is displayed at the bottom of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h and another good thing to do is fill in all the compulsory option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remain orange until fil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follow the progress of your job in the main CCP4i job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even quit CCP4i and restart it later to see if the job has completed,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sk you have ran will continue to run in the back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view a log file during or on completion of the tas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the task has programs within it that include HTML formatting the log fil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be viewed using a brow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olden days you could view many internal tables in ccp4 log files u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xloggraph program. But now you can do this using loggraph –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lacement program that’s a part of CCP4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ject management is just a fancy term for good house keep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651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window your first presented with when you start CCP4i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ore effort you put into this window the easier working with CCP4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be! Well with regards to keeping track of where your work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3CE-7C23-45AD-850C-D706B0A8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A2D-C803-474C-808B-A141DE5B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DB4-AAE0-48D9-B80A-01205BA2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136-57A6-43F4-97DE-3CAE4A6E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7A3-D86C-441C-B840-4255F7E7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1EB-05B9-44B9-B211-D97BBC81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88FA-2F1F-46F1-86F7-91BC9D58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E22-A0C3-4D8C-BC68-C599D04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16B-9871-41AD-972A-FB287523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A63-3757-4ED2-82C1-F7ED8C24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D8C-9B8A-41EE-A249-13BC0471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C81-FCB1-4BB5-8ACE-BB682AE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9035-8654-43E7-961C-D40DA08CA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58720" y="990720"/>
            <a:ext cx="59004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General Overview</a:t>
            </a:r>
            <a:r>
              <a:rPr b="1" i="1" lang="en-GB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eblogo175" descr="CCP4"/>
          <p:cNvPicPr/>
          <p:nvPr/>
        </p:nvPicPr>
        <p:blipFill>
          <a:blip r:embed="rId1"/>
          <a:stretch/>
        </p:blipFill>
        <p:spPr>
          <a:xfrm>
            <a:off x="838080" y="3033720"/>
            <a:ext cx="2000520" cy="789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CCP4 Packag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955-583D-478F-80AD-23A464B365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rector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00" y="17524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p4_version.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1752480"/>
            <a:ext cx="30477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tal/ccp4_versi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514600"/>
            <a:ext cx="7617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p4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5920" y="2514600"/>
            <a:ext cx="533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1160" y="2514600"/>
            <a:ext cx="9903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02160" y="25146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1080" y="2514600"/>
            <a:ext cx="685800" cy="609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67160" y="2514600"/>
            <a:ext cx="990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sup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19960" y="2514600"/>
            <a:ext cx="15238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-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1752480"/>
            <a:ext cx="533160" cy="44197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, examples, help, html, man, 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3" idx="2"/>
            <a:endCxn id="94" idx="0"/>
          </p:cNvCxnSpPr>
          <p:nvPr/>
        </p:nvCxnSpPr>
        <p:spPr>
          <a:xfrm rot="5400000">
            <a:off x="2590200" y="533160"/>
            <a:ext cx="305640" cy="36583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2"/>
            <a:endCxn id="95" idx="0"/>
          </p:cNvCxnSpPr>
          <p:nvPr/>
        </p:nvCxnSpPr>
        <p:spPr>
          <a:xfrm rot="5400000">
            <a:off x="3044160" y="987120"/>
            <a:ext cx="305640" cy="27504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3" idx="2"/>
            <a:endCxn id="96" idx="0"/>
          </p:cNvCxnSpPr>
          <p:nvPr/>
        </p:nvCxnSpPr>
        <p:spPr>
          <a:xfrm rot="5400000">
            <a:off x="3556080" y="1499040"/>
            <a:ext cx="305640" cy="17262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3" idx="2"/>
            <a:endCxn id="97" idx="0"/>
          </p:cNvCxnSpPr>
          <p:nvPr/>
        </p:nvCxnSpPr>
        <p:spPr>
          <a:xfrm rot="5400000">
            <a:off x="4048200" y="1991160"/>
            <a:ext cx="305640" cy="7419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3" idx="2"/>
            <a:endCxn id="98" idx="0"/>
          </p:cNvCxnSpPr>
          <p:nvPr/>
        </p:nvCxnSpPr>
        <p:spPr>
          <a:xfrm flipH="1" rot="16200000">
            <a:off x="4465440" y="2315520"/>
            <a:ext cx="305640" cy="92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2"/>
            <a:endCxn id="99" idx="0"/>
          </p:cNvCxnSpPr>
          <p:nvPr/>
        </p:nvCxnSpPr>
        <p:spPr>
          <a:xfrm flipH="1" rot="16200000">
            <a:off x="5013720" y="1766520"/>
            <a:ext cx="305640" cy="11912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2"/>
            <a:endCxn id="100" idx="0"/>
          </p:cNvCxnSpPr>
          <p:nvPr/>
        </p:nvCxnSpPr>
        <p:spPr>
          <a:xfrm flipH="1" rot="16200000">
            <a:off x="5773320" y="1006920"/>
            <a:ext cx="305640" cy="2710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6781680" y="23623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92" idx="3"/>
            <a:endCxn id="93" idx="1"/>
          </p:cNvCxnSpPr>
          <p:nvPr/>
        </p:nvCxnSpPr>
        <p:spPr>
          <a:xfrm>
            <a:off x="2814120" y="1980720"/>
            <a:ext cx="234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533520" y="3352680"/>
            <a:ext cx="76176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P4 interface,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ation, road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94" idx="2"/>
            <a:endCxn id="111" idx="0"/>
          </p:cNvCxnSpPr>
          <p:nvPr/>
        </p:nvCxnSpPr>
        <p:spPr>
          <a:xfrm>
            <a:off x="914040" y="31237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1555920" y="3352680"/>
            <a:ext cx="53316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P4 utility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1160" y="3352680"/>
            <a:ext cx="99036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cp4.setu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viron.def and default.d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95" idx="2"/>
            <a:endCxn id="113" idx="0"/>
          </p:cNvCxnSpPr>
          <p:nvPr/>
        </p:nvCxnSpPr>
        <p:spPr>
          <a:xfrm>
            <a:off x="1821960" y="31237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96" idx="2"/>
            <a:endCxn id="114" idx="0"/>
          </p:cNvCxnSpPr>
          <p:nvPr/>
        </p:nvCxnSpPr>
        <p:spPr>
          <a:xfrm>
            <a:off x="2846160" y="31237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602160" y="3352680"/>
            <a:ext cx="4572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brary src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97" idx="2"/>
            <a:endCxn id="117" idx="0"/>
          </p:cNvCxnSpPr>
          <p:nvPr/>
        </p:nvCxnSpPr>
        <p:spPr>
          <a:xfrm>
            <a:off x="3830400" y="31237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321080" y="3352680"/>
            <a:ext cx="68580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1752480"/>
            <a:ext cx="1447920" cy="45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93" idx="3"/>
            <a:endCxn id="120" idx="1"/>
          </p:cNvCxnSpPr>
          <p:nvPr/>
        </p:nvCxnSpPr>
        <p:spPr>
          <a:xfrm>
            <a:off x="6095880" y="1980720"/>
            <a:ext cx="45792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5267160" y="3352680"/>
            <a:ext cx="990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er programs that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phas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98" idx="2"/>
            <a:endCxn id="119" idx="0"/>
          </p:cNvCxnSpPr>
          <p:nvPr/>
        </p:nvCxnSpPr>
        <p:spPr>
          <a:xfrm flipV="1" rot="10800000">
            <a:off x="4663440" y="3123720"/>
            <a:ext cx="1080" cy="229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99" idx="2"/>
            <a:endCxn id="122" idx="0"/>
          </p:cNvCxnSpPr>
          <p:nvPr/>
        </p:nvCxnSpPr>
        <p:spPr>
          <a:xfrm>
            <a:off x="5762160" y="3123720"/>
            <a:ext cx="1080" cy="22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519960" y="3352680"/>
            <a:ext cx="152388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s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require x-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4CF-C166-4EE3-BCA4-09393F993F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cp4.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60020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CP4 programs require ccp4 environment variabl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t-up to enable them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.setup files found in include sub 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.setup-dist and ccp4.setup-b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essential that the following environment variables ar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rectly assig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_MASTER (where the ccp4_vers.tar was unpack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_SCR (CCP4 scratch director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I_TCLTK (where ccp4i finds bltwis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other environment variables use thes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ccp4.setup before configure and running CCP4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tomatically source ccp4.setup in login files (.cshrc or .lo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0666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X variant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4F5-7AD9-4D01-A8A2-CA42D82500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cp4.setup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752480"/>
          <a:ext cx="8076960" cy="3953160"/>
        </p:xfrm>
        <a:graphic>
          <a:graphicData uri="http://schemas.openxmlformats.org/drawingml/2006/table">
            <a:tbl>
              <a:tblPr/>
              <a:tblGrid>
                <a:gridCol w="1523880"/>
                <a:gridCol w="2362320"/>
                <a:gridCol w="380880"/>
                <a:gridCol w="1600200"/>
                <a:gridCol w="22096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SORT_M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of memory to use for sorting before suing d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I_HE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 $CCP4/ccp4i/he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SORT_S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k area to use for sor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I_TCLT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ch bltwish to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ccp4 binaries will l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I_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 $CCP4/ccp4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p directory of ccp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CP4/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_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B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CP4/incl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_LI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ccp4 libraries will l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CP4/lib/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_MA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ally $CCP4/.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I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CP4/lib/sr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_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write files or n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KNOWN = overwr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R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CP4/src home of the ccp4 program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P4_S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 ccp4 programs will write temporary fi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BLIC_FONT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CCP4_LIB/font84.dat a font data fil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816280" y="1066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920" y="5715000"/>
            <a:ext cx="79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need to learn these (and there are more) unless things go wro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B19A-FAD2-443E-ACB3-EC90AF62F1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371600"/>
            <a:ext cx="720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ing allows system specific flags to be as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gives you flexibility, and a quick and eas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 to change all the important make f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settings can be overridden by environmen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figure + Makefile.in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akefile + config.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the system has been configured you can either make the source code or install the binary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log of the configure settings are in config.statu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than one configure is run by $CCP4/con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6760" y="838080"/>
            <a:ext cx="68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IX variants only, when making from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E80-2F14-4363-BED8-6680B52833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e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1280" y="129528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 [--flags] [operating syste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057400"/>
          <a:ext cx="8305920" cy="4092480"/>
        </p:xfrm>
        <a:graphic>
          <a:graphicData uri="http://schemas.openxmlformats.org/drawingml/2006/table">
            <a:tbl>
              <a:tblPr/>
              <a:tblGrid>
                <a:gridCol w="2286000"/>
                <a:gridCol w="1600200"/>
                <a:gridCol w="304920"/>
                <a:gridCol w="1752480"/>
                <a:gridCol w="2362320"/>
              </a:tblGrid>
              <a:tr h="609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ng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hoice of 17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fl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hoice of 15!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x, irix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with-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e the X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ux /_compaq_compil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{*}d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c/bin/lib/t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p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wlett Pack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with-shared-l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e shared li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f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only-li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compile li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 OS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with-warn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for the developers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 Micro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CE4-6765-4160-A9FB-17C02EA25A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2880" y="1066680"/>
            <a:ext cx="43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stalling from source code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2240" y="156528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you’ve downloaded the package, unpacked, set the environment variables and configured the package you are now ready to make the su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$CCP4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want to keep a log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 &gt; make.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will firstly make the library components before the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complete you will need to instal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ke ins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987-8CB8-496A-BF2E-62005F360C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ke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95280"/>
            <a:ext cx="7559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make utility uses the settings in the Makefile which in turn was created from the Makefile.in by the configure scri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$CLIBS/fsplit – a small program used to break large library.f files into smaller files – this was needed on older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in the x-windows direc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make in the x-windows directory will ignore errors in compiling programs and will carry on regardl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ce complete you will need to install with make insta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will install the programs into $C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ves the library files into $CCP4_LIB / $C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ke also has numerous other op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374-4E12-46D5-BEB4-1799E8528EF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ke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24000" y="10494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[op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600200"/>
          <a:ext cx="7848360" cy="4494240"/>
        </p:xfrm>
        <a:graphic>
          <a:graphicData uri="http://schemas.openxmlformats.org/drawingml/2006/table">
            <a:tbl>
              <a:tblPr/>
              <a:tblGrid>
                <a:gridCol w="2361960"/>
                <a:gridCol w="54864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s the components into the correct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program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make the program if its been upd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n, realclean, distc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ous degrees of severity of cleaning the directory struct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ns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it says on the box…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-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s the size of e.g. $CPROG/[program] to z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20D-0FA4-4604-9B8B-2D1B802B712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urce Code Make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9200" y="9223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erence on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0200" y="1433520"/>
          <a:ext cx="6096240" cy="4457520"/>
        </p:xfrm>
        <a:graphic>
          <a:graphicData uri="http://schemas.openxmlformats.org/drawingml/2006/table">
            <a:tbl>
              <a:tblPr/>
              <a:tblGrid>
                <a:gridCol w="2121120"/>
                <a:gridCol w="3975120"/>
              </a:tblGrid>
              <a:tr h="53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e o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s *.o, *.~, et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n + any executable files in the direct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cl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clean + removes Makefiles, config.status    -&gt; only distribution 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nst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oves installed files created by the install st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2C2-09CD-4159-BFF8-E8AEAA3B15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ke V - Comp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360" y="1463760"/>
            <a:ext cx="778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the majority of operating systems the native compilers should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NU compilers gcc and g77 can used on man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hat 7.0 and 7.1 users should upgrade their gcc/g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gcc 3.0.&lt;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ux users can also use a variety of other compi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recent ccp4bb convers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e.g Portland Group and Intel compil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rix 6.5 users should not use f77 version 7.2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urrently use 7.3.1.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E99-699F-4EAF-90DA-4A661C316A4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 What Systems Will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68280" y="1676520"/>
            <a:ext cx="5945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SGi: Irix (o32, n32 and 64b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Linux Systems (Redhat, SuSE…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Compaq OSF1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Sun (Sun 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HP (All apart from Xwind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IBM (A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Mac OS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Microsoft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alatino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DED-02E6-46D7-B158-096DE0F091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Code M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9720" y="1600200"/>
            <a:ext cx="687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should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CCP4/BINARY.read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CCP4/BINARY.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$CCP4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ne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normal distribution and unpack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t and source ccp4.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script BINARY.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also http://www.ccp4.ac.uk/dist/INSTALL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NARY.about file in ‘binary’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46240" y="10317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UNIX variant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846-AFA0-4E2D-9E94-43996D75DB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1520" y="1066680"/>
            <a:ext cx="8400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d on Windows 95/98/Me/NT(4.0)/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ill need Admin 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 NT and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.exe auto in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 95/98/Me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compressed .zip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ill also need Tcl/tk and BLT for ccp4i (install before ccp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ccp4.ac.uk/dev/ccp4onn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ygwin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6F0-8616-4454-B8AB-CCAC8EDEA9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on Multip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371600"/>
            <a:ext cx="7591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ple systems means e.g. Linux and Irix wit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ared/mounted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 completely independent sourc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upt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found in $CCP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uptre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ust be run before any files are altered in $CC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uptree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eates a second identical source tree us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--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 mat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only need to bug fix one s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E30-52FA-4884-A2E6-9CF44FD1BB6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Fixing and Patch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e01496_" descr=""/>
          <p:cNvPicPr/>
          <p:nvPr/>
        </p:nvPicPr>
        <p:blipFill>
          <a:blip r:embed="rId1"/>
          <a:stretch/>
        </p:blipFill>
        <p:spPr>
          <a:xfrm>
            <a:off x="3122640" y="1822320"/>
            <a:ext cx="2922480" cy="3468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38720" y="5405400"/>
            <a:ext cx="59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ttp://www.ccp4.ac.uk/problem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1EA-178C-4BC7-ABD2-7F09182240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e01616_" descr=""/>
          <p:cNvPicPr/>
          <p:nvPr/>
        </p:nvPicPr>
        <p:blipFill>
          <a:blip r:embed="rId1"/>
          <a:stretch/>
        </p:blipFill>
        <p:spPr>
          <a:xfrm>
            <a:off x="6324480" y="3962520"/>
            <a:ext cx="207648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9720" y="1876320"/>
            <a:ext cx="7079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P4 m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P4 webs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www.ccp4.ac.uk/dist/INSTALL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P4 problems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p4@ccp4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20A-849B-4076-ACAB-8229AD731F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hat Have You Go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143000"/>
            <a:ext cx="45720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y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P4 Data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use the pro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ew in 4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F19-7A42-4D6B-AECE-FA81DEC18E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8720" y="1701720"/>
            <a:ext cx="7167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programs written in standard(ish) fortran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 150 programs mostly runnable from command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ll listings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ccp4.ac.uk/dist/html/INDEX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ccp4.ac.uk/dist/html/FUN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DA5-0C64-4481-BB20-17B0D585D5A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Communic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d04914_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1295280" cy="882720"/>
          </a:xfrm>
          <a:prstGeom prst="rect">
            <a:avLst/>
          </a:prstGeom>
          <a:ln w="0">
            <a:noFill/>
          </a:ln>
        </p:spPr>
      </p:pic>
      <p:pic>
        <p:nvPicPr>
          <p:cNvPr id="171" name="pe02097_" descr=""/>
          <p:cNvPicPr/>
          <p:nvPr/>
        </p:nvPicPr>
        <p:blipFill>
          <a:blip r:embed="rId2"/>
          <a:stretch/>
        </p:blipFill>
        <p:spPr>
          <a:xfrm>
            <a:off x="666720" y="2666880"/>
            <a:ext cx="1295280" cy="1036800"/>
          </a:xfrm>
          <a:prstGeom prst="rect">
            <a:avLst/>
          </a:prstGeom>
          <a:ln w="0">
            <a:noFill/>
          </a:ln>
        </p:spPr>
      </p:pic>
      <p:pic>
        <p:nvPicPr>
          <p:cNvPr id="172" name="bd06990_" descr=""/>
          <p:cNvPicPr/>
          <p:nvPr/>
        </p:nvPicPr>
        <p:blipFill>
          <a:blip r:embed="rId3"/>
          <a:stretch/>
        </p:blipFill>
        <p:spPr>
          <a:xfrm>
            <a:off x="666720" y="3809880"/>
            <a:ext cx="1219320" cy="10350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666720" y="4979880"/>
            <a:ext cx="1158840" cy="1192320"/>
            <a:chOff x="666720" y="4979880"/>
            <a:chExt cx="1158840" cy="1192320"/>
          </a:xfrm>
        </p:grpSpPr>
        <p:pic>
          <p:nvPicPr>
            <p:cNvPr id="174" name="clock" descr=""/>
            <p:cNvPicPr/>
            <p:nvPr/>
          </p:nvPicPr>
          <p:blipFill>
            <a:blip r:embed="rId4"/>
            <a:stretch/>
          </p:blipFill>
          <p:spPr>
            <a:xfrm>
              <a:off x="666720" y="4979880"/>
              <a:ext cx="11588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bd00028_" descr=""/>
            <p:cNvPicPr/>
            <p:nvPr/>
          </p:nvPicPr>
          <p:blipFill>
            <a:blip r:embed="rId5"/>
            <a:stretch/>
          </p:blipFill>
          <p:spPr>
            <a:xfrm>
              <a:off x="1008000" y="5322960"/>
              <a:ext cx="480960" cy="4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"/>
          <p:cNvSpPr/>
          <p:nvPr/>
        </p:nvSpPr>
        <p:spPr>
          <a:xfrm>
            <a:off x="2324160" y="169236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ata formats that contai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nformative log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1800" y="2743200"/>
            <a:ext cx="48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formats are publicly know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ed and useable by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42880" y="3962520"/>
            <a:ext cx="59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is forced to use our data formats as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numerous conversion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3600" y="5106960"/>
            <a:ext cx="52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CP4 programs already outpu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in XML f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3F10-090D-4B61-91FE-F776A8A865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6200" y="1009800"/>
            <a:ext cx="8272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ats used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mtz – refl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map .msk – map and mask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pdb – atom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cif – harvest files, refmac5 re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nary formats were used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TZ/map files are binary but portable as they contain a machine 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information in the FILE FORMATS sectio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ccp4.ac.uk/dist/html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0FC-82F7-4216-94FD-BCC0CCA21C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 II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TZ Reflection 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4720" y="1419120"/>
            <a:ext cx="748188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bl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umns - I, F, sigma, phase, FOM, etc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ws - 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umns grouped as datase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 na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set name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dimens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108.7  61.6  71.6  90.0  97.1  9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0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ccp4i, se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flection Data Utilities -&gt; Edit MTZ Project&amp;Datase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945A-2E61-4BFB-A123-C50E3DEAF7D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ere It Can Be Download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7800" y="1438200"/>
            <a:ext cx="75690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P4 ftp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tp://ftp.ccp4.ac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tp ftp.ccp4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ser name: 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w your@email.address.p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d pub/ccp4/curren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CP4 mirror si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tp://ftp.protein.osaka-u.ac.jp/mirror/ccp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tp://ftp.sdsc.edu/pub/sdsc/xtal/CCP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DC7-AD5B-48E8-8663-729DD51014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18240" y="1712880"/>
            <a:ext cx="1476360" cy="457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TZ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8240" y="2170080"/>
            <a:ext cx="147636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itle/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ace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62360" y="2932200"/>
            <a:ext cx="147816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62360" y="3313080"/>
            <a:ext cx="147816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stal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61000" y="2932200"/>
            <a:ext cx="147816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61000" y="3313080"/>
            <a:ext cx="1478160" cy="914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stal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00400" y="4608360"/>
            <a:ext cx="175752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set 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00400" y="4989600"/>
            <a:ext cx="175752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se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68880" y="4608360"/>
            <a:ext cx="175896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ataset 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68880" y="4989600"/>
            <a:ext cx="175896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ataset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70240" y="5979960"/>
            <a:ext cx="133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46600" y="5979960"/>
            <a:ext cx="1336680" cy="38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35640" y="2779560"/>
            <a:ext cx="7048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72320" y="2779560"/>
            <a:ext cx="35244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943160" y="4227480"/>
            <a:ext cx="3524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76760" y="4227480"/>
            <a:ext cx="11257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943520" y="5522760"/>
            <a:ext cx="2109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5800" y="5522760"/>
            <a:ext cx="9842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24760" y="5522760"/>
            <a:ext cx="35064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47040" y="4227480"/>
            <a:ext cx="7030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7040" y="4267080"/>
            <a:ext cx="30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irarchical view of reflection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 III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TZ Reflection Fi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3320" y="238140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uture 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 IV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TZ Reflection Files I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8160" y="1536840"/>
            <a:ext cx="32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520" y="3632040"/>
            <a:ext cx="3691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– value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– 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COL – no. of data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– global cel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INF – symmetry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– column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24840" y="4246560"/>
            <a:ext cx="304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 – resolutio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DIF – no. data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– datase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– harvesting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CH – batch im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79640" y="2098800"/>
            <a:ext cx="702612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ITLE make ccp4itut mtz inconspicuous Sfs from refined RNA_SANAT   8-7.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NCOL        8        18077        0                                             CELL    64.8970   78.3230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38.7920   90.0000   90.0000   90.0000               SORT    1   2   3   0   0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YMINF   4  4 P    19 P212121    PG222                                          COLUMN K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H            0.0000          42.0000      COLUMN L                              H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0.0000          21.0000      COLUMN FP                             F            0.0000        1219.0000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07A-53F2-4F61-B76F-A20195C0BD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 V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TZ Reflection Files 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720" y="1449360"/>
            <a:ext cx="772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ewing and mani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tzdump – view ascii dump of mtz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tz2various – convert mtz file to MULTAN, SHELX, TNT, X-PLOR/CN*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tzutils, cad, sftools – edit mtz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aleit, fhscal – column 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://www.ccp4.ac.uk/dist/html/FUN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637-2D81-4968-8CB8-86B4523353E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32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 VI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 Files - Dens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32120" y="177336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18760" y="177156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06840" y="1982880"/>
            <a:ext cx="13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92080" y="2073240"/>
            <a:ext cx="13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19880" y="1592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47600" y="20066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90280" y="2610000"/>
            <a:ext cx="72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ft –switch between electron density and refl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pdump – give information on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 map with – O, PyMol, Mapslicer, Astex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at – header + symops +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nary - but machine in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FDC-AC2C-401C-899F-8FBE45B6606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P4 Data Formats VII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 Pos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2040" y="1901880"/>
            <a:ext cx="658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DB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pdb version 2.1 d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mC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 uses a subset of the mmCIF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aints library of Refmac5 and lib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mdb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rvesting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A8C-728B-4756-BCF2-05AA9775349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35040" y="19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Run The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040" y="1297080"/>
            <a:ext cx="768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i – the ccp4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and line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gram [&lt;logical name&gt; &lt;file name&gt;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fft hklin native-Fs.mtz mapout 2Fo—Fc.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worded 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word &lt;option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 CELL a b c [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TLE this job will work this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59F-90C2-40FC-913B-E4A07CCF21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Run The Program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54680" y="89676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Key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06520" y="1608120"/>
          <a:ext cx="8040600" cy="4068720"/>
        </p:xfrm>
        <a:graphic>
          <a:graphicData uri="http://schemas.openxmlformats.org/drawingml/2006/table">
            <a:tbl>
              <a:tblPr/>
              <a:tblGrid>
                <a:gridCol w="2041920"/>
                <a:gridCol w="2114280"/>
                <a:gridCol w="216000"/>
                <a:gridCol w="2067120"/>
                <a:gridCol w="1601280"/>
              </a:tblGrid>
              <a:tr h="71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a b c [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dimensions 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LUTION &lt;limit&gt; [&lt;limit&gt;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lution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ates input and starts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number&gt; | &lt;name&gt; | &lt;operator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s record to history stack of M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IN &lt;Program label&gt;=&lt;file label&gt;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es the column labels that the program expects with MTZ c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OUT &lt;Program Label&gt;=&lt;file label&gt;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ociates column labels used in output file with those in progr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53B-9785-4DB7-A42F-ECEEAFBE5C4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in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800" y="1569960"/>
            <a:ext cx="75484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you g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150 programs encompassing the majority of protein crystallography – inclu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flm, Scala, Truncate, Mlphare, Rantan, Revise, Acorn, Oasis, SC, Amore, Molrep, Beast, DM, Fffear, Refmac5, Procheck, Sf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http://www.ccp4.ac.uk/dist/html/INDEX.html or http://www.ccp4.ac.uk/dist/html/FUN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B7C-37D1-4896-95F4-313509725E1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w in 4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2200" y="774720"/>
            <a:ext cx="80103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CORN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ab initio procedure for the determination of protein structure at atomic resolution (Yao Jia-X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BEAST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Brute-force molecular replacement with Ensemble Average Statistics, Maximum likelihood-based molecular replacement (Randy Rea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ROFESS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determination of NCS operators from heavy atoms (Kevin Cowta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OTAMER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list amino acids whose side chain torsion angles deviate from Richardson's Penultimate Rotamer Library (Dirk Kostrew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STEXVIEWER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Java application for viewing proteins, ligands and electron density maps (Mike Hartshor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nnouncement on: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http://www.ccp4.ac.uk/news/msg00098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FC6-BFF3-4248-A32F-E95BC5BA07E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56920" y="1949400"/>
            <a:ext cx="647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 Introduction to </a:t>
            </a: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CCP4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CCP4 Graphical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uthor: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eter Brig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CCP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CP4i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7FB-77F3-4BBC-BCFD-FA1EE75B689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w BIG Is the Downlo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28960" y="1797120"/>
            <a:ext cx="544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packed size =160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ar.gz size = 36 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ar.Z size = 56 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inary size = 25 – 107 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D88-A870-464D-BB0C-D6B821DA54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33520" y="1676520"/>
            <a:ext cx="69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s user friendly interfaces to th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160" y="26470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help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880" y="2154960"/>
            <a:ext cx="71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for file viewing &amp; “project managem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040" y="338760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 to get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2800" y="4017240"/>
            <a:ext cx="76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Unix/Linu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cp4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command pro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800" y="4550760"/>
            <a:ext cx="72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Windows/N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cp4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ia the Start m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Use CCP4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C97-C2A5-46E4-AFF9-7ADCBDA12C38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839520" y="48769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880" y="144792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50760" y="487692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360" y="487692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&amp; Ut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6440" y="137160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66680" y="2205000"/>
            <a:ext cx="6186240" cy="2446200"/>
            <a:chOff x="1066680" y="2205000"/>
            <a:chExt cx="6186240" cy="2446200"/>
          </a:xfrm>
        </p:grpSpPr>
        <p:pic>
          <p:nvPicPr>
            <p:cNvPr id="248" name="ccp4i-main" descr=""/>
            <p:cNvPicPr/>
            <p:nvPr/>
          </p:nvPicPr>
          <p:blipFill>
            <a:blip r:embed="rId1"/>
            <a:stretch/>
          </p:blipFill>
          <p:spPr>
            <a:xfrm>
              <a:off x="1066680" y="2205000"/>
              <a:ext cx="6186240" cy="24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1066680" y="2746080"/>
              <a:ext cx="1600200" cy="1295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66680" y="2517480"/>
              <a:ext cx="17524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160" y="2517480"/>
              <a:ext cx="2743200" cy="1905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4640" y="2593800"/>
              <a:ext cx="1295640" cy="1752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7640" y="2365200"/>
              <a:ext cx="38124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CCP4i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3" idx="2"/>
            <a:endCxn id="250" idx="0"/>
          </p:cNvCxnSpPr>
          <p:nvPr/>
        </p:nvCxnSpPr>
        <p:spPr>
          <a:xfrm>
            <a:off x="1247760" y="1966680"/>
            <a:ext cx="696240" cy="5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2" idx="0"/>
            <a:endCxn id="249" idx="2"/>
          </p:cNvCxnSpPr>
          <p:nvPr/>
        </p:nvCxnSpPr>
        <p:spPr>
          <a:xfrm flipV="1">
            <a:off x="1344240" y="4060080"/>
            <a:ext cx="52308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4" idx="0"/>
            <a:endCxn id="251" idx="2"/>
          </p:cNvCxnSpPr>
          <p:nvPr/>
        </p:nvCxnSpPr>
        <p:spPr>
          <a:xfrm flipV="1">
            <a:off x="3782880" y="4440960"/>
            <a:ext cx="408960" cy="4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5" idx="0"/>
            <a:endCxn id="252" idx="2"/>
          </p:cNvCxnSpPr>
          <p:nvPr/>
        </p:nvCxnSpPr>
        <p:spPr>
          <a:xfrm flipH="1" flipV="1">
            <a:off x="6361920" y="4365360"/>
            <a:ext cx="6483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46" idx="2"/>
            <a:endCxn id="253" idx="3"/>
          </p:cNvCxnSpPr>
          <p:nvPr/>
        </p:nvCxnSpPr>
        <p:spPr>
          <a:xfrm flipH="1">
            <a:off x="7257600" y="1890720"/>
            <a:ext cx="4341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F6C-0481-40FB-ABE6-F660672A0BD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ccp4i-main" descr=""/>
          <p:cNvPicPr/>
          <p:nvPr/>
        </p:nvPicPr>
        <p:blipFill>
          <a:blip r:embed="rId1"/>
          <a:stretch/>
        </p:blipFill>
        <p:spPr>
          <a:xfrm>
            <a:off x="1447920" y="2125800"/>
            <a:ext cx="6186240" cy="2446200"/>
          </a:xfrm>
          <a:prstGeom prst="rect">
            <a:avLst/>
          </a:prstGeom>
          <a:ln w="0">
            <a:noFill/>
          </a:ln>
        </p:spPr>
      </p:pic>
      <p:pic>
        <p:nvPicPr>
          <p:cNvPr id="261" name="ccp4i-modules" descr=""/>
          <p:cNvPicPr/>
          <p:nvPr/>
        </p:nvPicPr>
        <p:blipFill>
          <a:blip r:embed="rId2"/>
          <a:stretch/>
        </p:blipFill>
        <p:spPr>
          <a:xfrm>
            <a:off x="1481040" y="2652840"/>
            <a:ext cx="1295640" cy="17906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80880" y="989280"/>
            <a:ext cx="61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he module list by clicking on the gold bar displaying the current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8288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60B-2C48-4586-843E-B3BFEBC0D8D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cp4i-modules" descr=""/>
          <p:cNvPicPr/>
          <p:nvPr/>
        </p:nvPicPr>
        <p:blipFill>
          <a:blip r:embed="rId1"/>
          <a:stretch/>
        </p:blipFill>
        <p:spPr>
          <a:xfrm>
            <a:off x="1481040" y="2652840"/>
            <a:ext cx="1295640" cy="1790640"/>
          </a:xfrm>
          <a:prstGeom prst="rect">
            <a:avLst/>
          </a:prstGeom>
          <a:ln w="0">
            <a:noFill/>
          </a:ln>
        </p:spPr>
      </p:pic>
      <p:pic>
        <p:nvPicPr>
          <p:cNvPr id="266" name="ccp4i-modules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266920" cy="313524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685800" y="1676520"/>
            <a:ext cx="8077320" cy="1981080"/>
            <a:chOff x="685800" y="1676520"/>
            <a:chExt cx="8077320" cy="1981080"/>
          </a:xfrm>
        </p:grpSpPr>
        <p:sp>
          <p:nvSpPr>
            <p:cNvPr id="268" name=""/>
            <p:cNvSpPr/>
            <p:nvPr/>
          </p:nvSpPr>
          <p:spPr>
            <a:xfrm>
              <a:off x="3200400" y="2696760"/>
              <a:ext cx="5562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sks used in a particular part of the structure determination 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85800" y="1676520"/>
              <a:ext cx="2286000" cy="1981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85800" y="3519000"/>
            <a:ext cx="7621560" cy="976680"/>
            <a:chOff x="685800" y="3519000"/>
            <a:chExt cx="7621560" cy="976680"/>
          </a:xfrm>
        </p:grpSpPr>
        <p:sp>
          <p:nvSpPr>
            <p:cNvPr id="271" name=""/>
            <p:cNvSpPr/>
            <p:nvPr/>
          </p:nvSpPr>
          <p:spPr>
            <a:xfrm>
              <a:off x="3200400" y="3519000"/>
              <a:ext cx="510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Utility tasks for manipulating different types of 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3657600"/>
              <a:ext cx="2286000" cy="838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5800" y="4388760"/>
            <a:ext cx="7874640" cy="520560"/>
            <a:chOff x="685800" y="4388760"/>
            <a:chExt cx="7874640" cy="520560"/>
          </a:xfrm>
        </p:grpSpPr>
        <p:sp>
          <p:nvSpPr>
            <p:cNvPr id="274" name=""/>
            <p:cNvSpPr/>
            <p:nvPr/>
          </p:nvSpPr>
          <p:spPr>
            <a:xfrm>
              <a:off x="3198240" y="4388760"/>
              <a:ext cx="53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lphabetical list of programs/task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00" y="4495680"/>
              <a:ext cx="228600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ule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3BD-9EF7-43E8-B2A2-7D5DDF9B397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ccp4i-main" descr=""/>
          <p:cNvPicPr/>
          <p:nvPr/>
        </p:nvPicPr>
        <p:blipFill>
          <a:blip r:embed="rId1"/>
          <a:stretch/>
        </p:blipFill>
        <p:spPr>
          <a:xfrm>
            <a:off x="1447920" y="2125800"/>
            <a:ext cx="6186240" cy="24462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762120" y="1065600"/>
            <a:ext cx="3457440" cy="2363400"/>
            <a:chOff x="762120" y="1065600"/>
            <a:chExt cx="3457440" cy="2363400"/>
          </a:xfrm>
        </p:grpSpPr>
        <p:sp>
          <p:nvSpPr>
            <p:cNvPr id="279" name=""/>
            <p:cNvSpPr/>
            <p:nvPr/>
          </p:nvSpPr>
          <p:spPr>
            <a:xfrm>
              <a:off x="762120" y="1065600"/>
              <a:ext cx="345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ick on the appropriate button in the list to start a particular tas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71600" y="2133720"/>
              <a:ext cx="456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ccp4i-scala" descr=""/>
          <p:cNvPicPr/>
          <p:nvPr/>
        </p:nvPicPr>
        <p:blipFill>
          <a:blip r:embed="rId2"/>
          <a:stretch/>
        </p:blipFill>
        <p:spPr>
          <a:xfrm>
            <a:off x="4267080" y="1143000"/>
            <a:ext cx="4595760" cy="408132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192600" y="4952880"/>
            <a:ext cx="4759920" cy="657360"/>
            <a:chOff x="192600" y="4952880"/>
            <a:chExt cx="4759920" cy="657360"/>
          </a:xfrm>
        </p:grpSpPr>
        <p:sp>
          <p:nvSpPr>
            <p:cNvPr id="283" name=""/>
            <p:cNvSpPr/>
            <p:nvPr/>
          </p:nvSpPr>
          <p:spPr>
            <a:xfrm>
              <a:off x="192600" y="5150520"/>
              <a:ext cx="47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is starts the interface for that ta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886200" y="49528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50C-9D1D-4D2F-BD90-EBC54813A6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ccp4i-scala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595760" cy="408132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914400" y="4191120"/>
            <a:ext cx="7924320" cy="990360"/>
            <a:chOff x="914400" y="4191120"/>
            <a:chExt cx="7924320" cy="990360"/>
          </a:xfrm>
        </p:grpSpPr>
        <p:sp>
          <p:nvSpPr>
            <p:cNvPr id="288" name=""/>
            <p:cNvSpPr/>
            <p:nvPr/>
          </p:nvSpPr>
          <p:spPr>
            <a:xfrm>
              <a:off x="3987000" y="4267080"/>
              <a:ext cx="4851720" cy="609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14400" y="4191120"/>
              <a:ext cx="3138120" cy="990360"/>
            </a:xfrm>
            <a:custGeom>
              <a:avLst/>
              <a:gdLst>
                <a:gd name="textAreaLeft" fmla="*/ 0 w 3138120"/>
                <a:gd name="textAreaRight" fmla="*/ 3138480 w 3138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16" y="0"/>
                  </a:lnTo>
                  <a:lnTo>
                    <a:pt x="21600" y="10800"/>
                  </a:lnTo>
                  <a:lnTo>
                    <a:pt x="174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osed fol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vanced/infrequent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d op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914400" y="2743200"/>
            <a:ext cx="7924320" cy="1523880"/>
            <a:chOff x="914400" y="2743200"/>
            <a:chExt cx="7924320" cy="1523880"/>
          </a:xfrm>
        </p:grpSpPr>
        <p:sp>
          <p:nvSpPr>
            <p:cNvPr id="291" name=""/>
            <p:cNvSpPr/>
            <p:nvPr/>
          </p:nvSpPr>
          <p:spPr>
            <a:xfrm>
              <a:off x="3987000" y="2743200"/>
              <a:ext cx="4851720" cy="1523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14400" y="2819520"/>
              <a:ext cx="3138120" cy="1447560"/>
            </a:xfrm>
            <a:custGeom>
              <a:avLst/>
              <a:gdLst>
                <a:gd name="textAreaLeft" fmla="*/ 0 w 3138120"/>
                <a:gd name="textAreaRight" fmla="*/ 3138480 w 31381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16" y="0"/>
                  </a:lnTo>
                  <a:lnTo>
                    <a:pt x="21600" y="10800"/>
                  </a:lnTo>
                  <a:lnTo>
                    <a:pt x="174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pen fol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meters that should be chec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y the user before ru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Highlights indicate compulsory in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914400" y="2209680"/>
            <a:ext cx="7924320" cy="762120"/>
            <a:chOff x="914400" y="2209680"/>
            <a:chExt cx="7924320" cy="762120"/>
          </a:xfrm>
        </p:grpSpPr>
        <p:sp>
          <p:nvSpPr>
            <p:cNvPr id="294" name=""/>
            <p:cNvSpPr/>
            <p:nvPr/>
          </p:nvSpPr>
          <p:spPr>
            <a:xfrm>
              <a:off x="3987000" y="2209680"/>
              <a:ext cx="4851720" cy="533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14400" y="2209680"/>
              <a:ext cx="3138120" cy="762120"/>
            </a:xfrm>
            <a:custGeom>
              <a:avLst/>
              <a:gdLst>
                <a:gd name="textAreaLeft" fmla="*/ 0 w 3138120"/>
                <a:gd name="textAreaRight" fmla="*/ 3138480 w 3138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16" y="0"/>
                  </a:lnTo>
                  <a:lnTo>
                    <a:pt x="21600" y="10800"/>
                  </a:lnTo>
                  <a:lnTo>
                    <a:pt x="174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ile fol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input and output file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1447920"/>
            <a:ext cx="7924320" cy="838080"/>
            <a:chOff x="914400" y="1447920"/>
            <a:chExt cx="7924320" cy="838080"/>
          </a:xfrm>
        </p:grpSpPr>
        <p:sp>
          <p:nvSpPr>
            <p:cNvPr id="297" name=""/>
            <p:cNvSpPr/>
            <p:nvPr/>
          </p:nvSpPr>
          <p:spPr>
            <a:xfrm>
              <a:off x="3987000" y="1447920"/>
              <a:ext cx="4851720" cy="761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14400" y="1447920"/>
              <a:ext cx="3138120" cy="838080"/>
            </a:xfrm>
            <a:custGeom>
              <a:avLst/>
              <a:gdLst>
                <a:gd name="textAreaLeft" fmla="*/ 0 w 3138120"/>
                <a:gd name="textAreaRight" fmla="*/ 3138480 w 31381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16" y="0"/>
                  </a:lnTo>
                  <a:lnTo>
                    <a:pt x="21600" y="10800"/>
                  </a:lnTo>
                  <a:lnTo>
                    <a:pt x="1741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tocol fold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ke the key decis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1218240"/>
            <a:ext cx="485640" cy="3961800"/>
            <a:chOff x="228600" y="1218240"/>
            <a:chExt cx="485640" cy="3961800"/>
          </a:xfrm>
        </p:grpSpPr>
        <p:sp>
          <p:nvSpPr>
            <p:cNvPr id="300" name=""/>
            <p:cNvSpPr/>
            <p:nvPr/>
          </p:nvSpPr>
          <p:spPr>
            <a:xfrm rot="5400000">
              <a:off x="-1316520" y="2809800"/>
              <a:ext cx="355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ORK FROM THE TOP 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8600" y="4799160"/>
              <a:ext cx="485640" cy="380880"/>
            </a:xfrm>
            <a:prstGeom prst="downArrow">
              <a:avLst>
                <a:gd name="adj1" fmla="val 49676"/>
                <a:gd name="adj2" fmla="val 4708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398840" y="5070600"/>
            <a:ext cx="1679760" cy="1101600"/>
          </a:xfrm>
          <a:prstGeom prst="upArrowCallout">
            <a:avLst>
              <a:gd name="adj1" fmla="val 20178"/>
              <a:gd name="adj2" fmla="val 25364"/>
              <a:gd name="adj3" fmla="val 22153"/>
              <a:gd name="adj4" fmla="val 891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05600" y="5068800"/>
            <a:ext cx="1679400" cy="1103400"/>
          </a:xfrm>
          <a:prstGeom prst="upArrowCallout">
            <a:avLst>
              <a:gd name="adj1" fmla="val 20140"/>
              <a:gd name="adj2" fmla="val 25318"/>
              <a:gd name="adj3" fmla="val 22153"/>
              <a:gd name="adj4" fmla="val 891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/restor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26360" y="1432440"/>
            <a:ext cx="308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lways add a title to distinguish different runs of the same tas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8920" y="5293440"/>
            <a:ext cx="352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s - “If it’s not vi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n it’s not importa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Task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9DB-DAF8-4472-8C2F-9064C0F8827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cp4i-running" descr=""/>
          <p:cNvPicPr/>
          <p:nvPr/>
        </p:nvPicPr>
        <p:blipFill>
          <a:blip r:embed="rId1"/>
          <a:stretch/>
        </p:blipFill>
        <p:spPr>
          <a:xfrm>
            <a:off x="2023920" y="2197080"/>
            <a:ext cx="5038920" cy="1790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85920" y="1424520"/>
            <a:ext cx="73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ch the progress of the job in the Job Databas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ccp4i-finished" descr=""/>
          <p:cNvPicPr/>
          <p:nvPr/>
        </p:nvPicPr>
        <p:blipFill>
          <a:blip r:embed="rId2"/>
          <a:stretch/>
        </p:blipFill>
        <p:spPr>
          <a:xfrm>
            <a:off x="2028960" y="2197080"/>
            <a:ext cx="5029200" cy="17906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unning a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D06-F9CD-4C6B-BBC9-EFA281DD56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ccp4i-main" descr=""/>
          <p:cNvPicPr/>
          <p:nvPr/>
        </p:nvPicPr>
        <p:blipFill>
          <a:blip r:embed="rId1"/>
          <a:stretch/>
        </p:blipFill>
        <p:spPr>
          <a:xfrm>
            <a:off x="-5022720" y="2125800"/>
            <a:ext cx="7734240" cy="3058920"/>
          </a:xfrm>
          <a:prstGeom prst="rect">
            <a:avLst/>
          </a:prstGeom>
          <a:ln w="0">
            <a:noFill/>
          </a:ln>
        </p:spPr>
      </p:pic>
      <p:pic>
        <p:nvPicPr>
          <p:cNvPr id="312" name="ccp4i-view-job" descr=""/>
          <p:cNvPicPr/>
          <p:nvPr/>
        </p:nvPicPr>
        <p:blipFill>
          <a:blip r:embed="rId2"/>
          <a:stretch/>
        </p:blipFill>
        <p:spPr>
          <a:xfrm>
            <a:off x="852480" y="3367080"/>
            <a:ext cx="2228760" cy="21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971800" y="1446480"/>
            <a:ext cx="57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 logfile in Netscape (if it contains HTML tags) and/or text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73796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 input and output files (.mtz, .pdb, CCP4 maps) using appropriate 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so us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ew Any Fi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cp4i -v &lt;filename&g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t the pro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581280" y="2588760"/>
            <a:ext cx="5035680" cy="1886040"/>
            <a:chOff x="3581280" y="2588760"/>
            <a:chExt cx="5035680" cy="1886040"/>
          </a:xfrm>
        </p:grpSpPr>
        <p:sp>
          <p:nvSpPr>
            <p:cNvPr id="316" name=""/>
            <p:cNvSpPr/>
            <p:nvPr/>
          </p:nvSpPr>
          <p:spPr>
            <a:xfrm>
              <a:off x="3581280" y="2588760"/>
              <a:ext cx="356868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iew graphs in logfile using </a:t>
              </a:r>
              <a:r>
                <a:rPr b="1" lang="en-GB" sz="2400" spc="-1" strike="noStrike">
                  <a:solidFill>
                    <a:srgbClr val="000000"/>
                  </a:solidFill>
                  <a:latin typeface="Courier New"/>
                </a:rPr>
                <a:t>log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also use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loggraph &lt;filename&gt;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at the command prom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ccp4i-loggraph" descr=""/>
            <p:cNvPicPr/>
            <p:nvPr/>
          </p:nvPicPr>
          <p:blipFill>
            <a:blip r:embed="rId3"/>
            <a:stretch/>
          </p:blipFill>
          <p:spPr>
            <a:xfrm>
              <a:off x="7259760" y="2620800"/>
              <a:ext cx="1357200" cy="185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iew Output From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2B8-825F-437D-9E01-752C0CA896C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27520" y="1518480"/>
            <a:ext cx="25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bo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2498760"/>
            <a:ext cx="8229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mind you what you did six month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keep track of multiple projects and associa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facilitate “back-track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ake it easier to deposit your results/write your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Management Using CCP4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F50-7327-431D-967E-BB54B6301B84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915840" y="1422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ccp4i-main" descr=""/>
          <p:cNvPicPr/>
          <p:nvPr/>
        </p:nvPicPr>
        <p:blipFill>
          <a:blip r:embed="rId1"/>
          <a:stretch/>
        </p:blipFill>
        <p:spPr>
          <a:xfrm>
            <a:off x="-5489640" y="1905120"/>
            <a:ext cx="7734240" cy="3058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01680" y="2286000"/>
            <a:ext cx="1981080" cy="38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2760" y="2514600"/>
            <a:ext cx="488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ccp4i-project" descr=""/>
          <p:cNvPicPr/>
          <p:nvPr/>
        </p:nvPicPr>
        <p:blipFill>
          <a:blip r:embed="rId2"/>
          <a:stretch/>
        </p:blipFill>
        <p:spPr>
          <a:xfrm>
            <a:off x="2816280" y="1752480"/>
            <a:ext cx="6010200" cy="33354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132560" y="5469120"/>
            <a:ext cx="786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data files relating to one crystallographic project sh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in a single project directo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354760" y="1002240"/>
            <a:ext cx="2332440" cy="2050560"/>
            <a:chOff x="2354760" y="1002240"/>
            <a:chExt cx="2332440" cy="2050560"/>
          </a:xfrm>
        </p:grpSpPr>
        <p:sp>
          <p:nvSpPr>
            <p:cNvPr id="329" name=""/>
            <p:cNvSpPr/>
            <p:nvPr/>
          </p:nvSpPr>
          <p:spPr>
            <a:xfrm>
              <a:off x="3206880" y="2451240"/>
              <a:ext cx="798480" cy="601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586320" y="1582200"/>
              <a:ext cx="0" cy="86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54760" y="1002240"/>
              <a:ext cx="2332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word alias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435920" y="941400"/>
            <a:ext cx="4464720" cy="2065320"/>
            <a:chOff x="4435920" y="941400"/>
            <a:chExt cx="4464720" cy="2065320"/>
          </a:xfrm>
        </p:grpSpPr>
        <p:sp>
          <p:nvSpPr>
            <p:cNvPr id="333" name=""/>
            <p:cNvSpPr/>
            <p:nvPr/>
          </p:nvSpPr>
          <p:spPr>
            <a:xfrm>
              <a:off x="4692600" y="2347920"/>
              <a:ext cx="3346560" cy="658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6324480" y="1676160"/>
              <a:ext cx="6480" cy="67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35920" y="941400"/>
              <a:ext cx="446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project directory contain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ject Direc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4D1-AD44-479F-B557-7970D4AEB19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94440" y="1511280"/>
            <a:ext cx="5865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naries or source co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p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rectory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p4.se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urce Code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nary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lling on multip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634-8AE0-409E-964E-451DB5132D5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58800" y="1565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8800" y="1127160"/>
            <a:ext cx="81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ject directory has an associ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databa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ed through the central panel in the main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59160" y="2046240"/>
            <a:ext cx="3868560" cy="1528560"/>
            <a:chOff x="2459160" y="2046240"/>
            <a:chExt cx="3868560" cy="1528560"/>
          </a:xfrm>
        </p:grpSpPr>
        <p:pic>
          <p:nvPicPr>
            <p:cNvPr id="340" name="ccp4i-main" descr=""/>
            <p:cNvPicPr/>
            <p:nvPr/>
          </p:nvPicPr>
          <p:blipFill>
            <a:blip r:embed="rId1"/>
            <a:stretch/>
          </p:blipFill>
          <p:spPr>
            <a:xfrm>
              <a:off x="2459160" y="2046240"/>
              <a:ext cx="386856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530520" y="2205000"/>
              <a:ext cx="1793880" cy="1287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53400" y="3636360"/>
            <a:ext cx="5947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ispl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which tasks were run, and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ir statu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UN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IS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title entered by th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4400" y="5042880"/>
            <a:ext cx="6266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also keeps a record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parameters used to run 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he input, output and log files associated with the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ccp4i-job-database" descr=""/>
          <p:cNvPicPr/>
          <p:nvPr/>
        </p:nvPicPr>
        <p:blipFill>
          <a:blip r:embed="rId2"/>
          <a:stretch/>
        </p:blipFill>
        <p:spPr>
          <a:xfrm>
            <a:off x="1954080" y="2000160"/>
            <a:ext cx="4926240" cy="1636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ob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B4C-FC9E-44B7-8B3B-BA14E7165E47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5840" y="1422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ccp4i-main" descr=""/>
          <p:cNvPicPr/>
          <p:nvPr/>
        </p:nvPicPr>
        <p:blipFill>
          <a:blip r:embed="rId1"/>
          <a:stretch/>
        </p:blipFill>
        <p:spPr>
          <a:xfrm>
            <a:off x="-7800840" y="1368360"/>
            <a:ext cx="10828080" cy="42814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378160" y="1659600"/>
            <a:ext cx="5602320" cy="1383480"/>
            <a:chOff x="2378160" y="1659600"/>
            <a:chExt cx="5602320" cy="1383480"/>
          </a:xfrm>
        </p:grpSpPr>
        <p:sp>
          <p:nvSpPr>
            <p:cNvPr id="349" name=""/>
            <p:cNvSpPr/>
            <p:nvPr/>
          </p:nvSpPr>
          <p:spPr>
            <a:xfrm>
              <a:off x="2378160" y="2884320"/>
              <a:ext cx="15552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492280" y="1933200"/>
              <a:ext cx="1217880" cy="99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4840" y="1659600"/>
              <a:ext cx="426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ew files from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job in the 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389320" y="2534040"/>
            <a:ext cx="5749920" cy="815760"/>
            <a:chOff x="2389320" y="2534040"/>
            <a:chExt cx="5749920" cy="815760"/>
          </a:xfrm>
        </p:grpSpPr>
        <p:sp>
          <p:nvSpPr>
            <p:cNvPr id="353" name=""/>
            <p:cNvSpPr/>
            <p:nvPr/>
          </p:nvSpPr>
          <p:spPr>
            <a:xfrm>
              <a:off x="3786120" y="2534040"/>
              <a:ext cx="435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move failed/unwanted jobs from the database and archive important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89320" y="3191040"/>
              <a:ext cx="155520" cy="15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517840" y="2855520"/>
              <a:ext cx="1231920" cy="392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387520" y="3607200"/>
            <a:ext cx="5681880" cy="1294560"/>
            <a:chOff x="2387520" y="3607200"/>
            <a:chExt cx="5681880" cy="1294560"/>
          </a:xfrm>
        </p:grpSpPr>
        <p:grpSp>
          <p:nvGrpSpPr>
            <p:cNvPr id="357" name=""/>
            <p:cNvGrpSpPr/>
            <p:nvPr/>
          </p:nvGrpSpPr>
          <p:grpSpPr>
            <a:xfrm>
              <a:off x="3747960" y="3607200"/>
              <a:ext cx="4321440" cy="1294560"/>
              <a:chOff x="3747960" y="3607200"/>
              <a:chExt cx="4321440" cy="1294560"/>
            </a:xfrm>
          </p:grpSpPr>
          <p:sp>
            <p:nvSpPr>
              <p:cNvPr id="358" name=""/>
              <p:cNvSpPr/>
              <p:nvPr/>
            </p:nvSpPr>
            <p:spPr>
              <a:xfrm>
                <a:off x="3747960" y="3607200"/>
                <a:ext cx="4321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run 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ny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job in the database (with the option of changing the parameters first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76840" y="4197960"/>
                <a:ext cx="4097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e this to review parameters used in an earlier ru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387520" y="3832200"/>
              <a:ext cx="1360440" cy="225360"/>
              <a:chOff x="2387520" y="3832200"/>
              <a:chExt cx="1360440" cy="225360"/>
            </a:xfrm>
          </p:grpSpPr>
          <p:sp>
            <p:nvSpPr>
              <p:cNvPr id="361" name=""/>
              <p:cNvSpPr/>
              <p:nvPr/>
            </p:nvSpPr>
            <p:spPr>
              <a:xfrm>
                <a:off x="2387520" y="3832200"/>
                <a:ext cx="155520" cy="158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32160" y="3903840"/>
                <a:ext cx="1315800" cy="153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2398680" y="4149720"/>
            <a:ext cx="5559480" cy="1733040"/>
            <a:chOff x="2398680" y="4149720"/>
            <a:chExt cx="5559480" cy="1733040"/>
          </a:xfrm>
        </p:grpSpPr>
        <p:grpSp>
          <p:nvGrpSpPr>
            <p:cNvPr id="364" name=""/>
            <p:cNvGrpSpPr/>
            <p:nvPr/>
          </p:nvGrpSpPr>
          <p:grpSpPr>
            <a:xfrm>
              <a:off x="2398680" y="4149720"/>
              <a:ext cx="1332000" cy="1192320"/>
              <a:chOff x="2398680" y="4149720"/>
              <a:chExt cx="1332000" cy="1192320"/>
            </a:xfrm>
          </p:grpSpPr>
          <p:sp>
            <p:nvSpPr>
              <p:cNvPr id="365" name=""/>
              <p:cNvSpPr/>
              <p:nvPr/>
            </p:nvSpPr>
            <p:spPr>
              <a:xfrm>
                <a:off x="2398680" y="4149720"/>
                <a:ext cx="155520" cy="1587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498760" y="4262400"/>
                <a:ext cx="1231920" cy="107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718080" y="5188680"/>
              <a:ext cx="4240080" cy="694080"/>
              <a:chOff x="3718080" y="5188680"/>
              <a:chExt cx="4240080" cy="694080"/>
            </a:xfrm>
          </p:grpSpPr>
          <p:sp>
            <p:nvSpPr>
              <p:cNvPr id="368" name=""/>
              <p:cNvSpPr/>
              <p:nvPr/>
            </p:nvSpPr>
            <p:spPr>
              <a:xfrm>
                <a:off x="3718080" y="5188680"/>
                <a:ext cx="3395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eep the database up-to-d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60640" y="5483880"/>
                <a:ext cx="4097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dd runs of “external” program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ob Database Ut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128-6BBB-406D-81FF-AD2AF3C52A87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15840" y="1422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ccp4i-main" descr=""/>
          <p:cNvPicPr/>
          <p:nvPr/>
        </p:nvPicPr>
        <p:blipFill>
          <a:blip r:embed="rId1"/>
          <a:stretch/>
        </p:blipFill>
        <p:spPr>
          <a:xfrm>
            <a:off x="-7800840" y="1368360"/>
            <a:ext cx="10828080" cy="4281480"/>
          </a:xfrm>
          <a:prstGeom prst="rect">
            <a:avLst/>
          </a:prstGeom>
          <a:ln w="0">
            <a:noFill/>
          </a:ln>
        </p:spPr>
      </p:pic>
      <p:pic>
        <p:nvPicPr>
          <p:cNvPr id="373" name="ccp4i-edit" descr=""/>
          <p:cNvPicPr/>
          <p:nvPr/>
        </p:nvPicPr>
        <p:blipFill>
          <a:blip r:embed="rId2"/>
          <a:stretch/>
        </p:blipFill>
        <p:spPr>
          <a:xfrm>
            <a:off x="426960" y="4398840"/>
            <a:ext cx="2511360" cy="895320"/>
          </a:xfrm>
          <a:prstGeom prst="rect">
            <a:avLst/>
          </a:prstGeom>
          <a:ln w="0">
            <a:noFill/>
          </a:ln>
        </p:spPr>
      </p:pic>
      <p:grpSp>
        <p:nvGrpSpPr>
          <p:cNvPr id="374" name=""/>
          <p:cNvGrpSpPr/>
          <p:nvPr/>
        </p:nvGrpSpPr>
        <p:grpSpPr>
          <a:xfrm>
            <a:off x="2743200" y="609480"/>
            <a:ext cx="5788080" cy="3997440"/>
            <a:chOff x="2743200" y="609480"/>
            <a:chExt cx="5788080" cy="3997440"/>
          </a:xfrm>
        </p:grpSpPr>
        <p:pic>
          <p:nvPicPr>
            <p:cNvPr id="375" name="ccp4i-notebook" descr=""/>
            <p:cNvPicPr/>
            <p:nvPr/>
          </p:nvPicPr>
          <p:blipFill>
            <a:blip r:embed="rId3"/>
            <a:stretch/>
          </p:blipFill>
          <p:spPr>
            <a:xfrm>
              <a:off x="5634000" y="609480"/>
              <a:ext cx="289728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flipV="1">
              <a:off x="2743200" y="1190520"/>
              <a:ext cx="2786040" cy="341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743200" y="2286000"/>
            <a:ext cx="5765760" cy="2634840"/>
            <a:chOff x="2743200" y="2286000"/>
            <a:chExt cx="5765760" cy="2634840"/>
          </a:xfrm>
        </p:grpSpPr>
        <p:pic>
          <p:nvPicPr>
            <p:cNvPr id="378" name="ccp4i-edit-data" descr=""/>
            <p:cNvPicPr/>
            <p:nvPr/>
          </p:nvPicPr>
          <p:blipFill>
            <a:blip r:embed="rId4"/>
            <a:stretch/>
          </p:blipFill>
          <p:spPr>
            <a:xfrm>
              <a:off x="5211720" y="2286000"/>
              <a:ext cx="3297240" cy="18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 flipV="1">
              <a:off x="2743200" y="3407760"/>
              <a:ext cx="2354400" cy="15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819520" y="4267080"/>
            <a:ext cx="5753160" cy="1449360"/>
            <a:chOff x="2819520" y="4267080"/>
            <a:chExt cx="5753160" cy="1449360"/>
          </a:xfrm>
        </p:grpSpPr>
        <p:pic>
          <p:nvPicPr>
            <p:cNvPr id="381" name="ccp4i-external" descr=""/>
            <p:cNvPicPr/>
            <p:nvPr/>
          </p:nvPicPr>
          <p:blipFill>
            <a:blip r:embed="rId5"/>
            <a:stretch/>
          </p:blipFill>
          <p:spPr>
            <a:xfrm>
              <a:off x="5272200" y="4267080"/>
              <a:ext cx="330048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819520" y="5171760"/>
              <a:ext cx="232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200400" y="152820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eb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ecord information for future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3128400"/>
            <a:ext cx="16794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t 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e.g. update title of run, change file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4728600"/>
            <a:ext cx="16765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external /non-interfaced program run to th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dit Job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DAD-7F92-40CD-A5DD-A06791DC2C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ccp4i-main" descr=""/>
          <p:cNvPicPr/>
          <p:nvPr/>
        </p:nvPicPr>
        <p:blipFill>
          <a:blip r:embed="rId1"/>
          <a:stretch/>
        </p:blipFill>
        <p:spPr>
          <a:xfrm>
            <a:off x="-5308560" y="2254320"/>
            <a:ext cx="7734240" cy="305892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1082520" y="1356840"/>
            <a:ext cx="2052720" cy="1430640"/>
            <a:chOff x="1082520" y="1356840"/>
            <a:chExt cx="2052720" cy="1430640"/>
          </a:xfrm>
        </p:grpSpPr>
        <p:sp>
          <p:nvSpPr>
            <p:cNvPr id="389" name=""/>
            <p:cNvSpPr/>
            <p:nvPr/>
          </p:nvSpPr>
          <p:spPr>
            <a:xfrm>
              <a:off x="1779480" y="2367000"/>
              <a:ext cx="741600" cy="4204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28680" y="1974960"/>
              <a:ext cx="0" cy="40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82520" y="1356840"/>
              <a:ext cx="20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l help from main wind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2" name="ccp4i-scala" descr=""/>
          <p:cNvPicPr/>
          <p:nvPr/>
        </p:nvPicPr>
        <p:blipFill>
          <a:blip r:embed="rId2"/>
          <a:stretch/>
        </p:blipFill>
        <p:spPr>
          <a:xfrm>
            <a:off x="1859040" y="2951280"/>
            <a:ext cx="3940200" cy="349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857920" y="4725360"/>
            <a:ext cx="30891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lp with a particular option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ight hand mouse button click over that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01640" y="2156760"/>
            <a:ext cx="2481480" cy="1162800"/>
            <a:chOff x="3401640" y="2156760"/>
            <a:chExt cx="2481480" cy="1162800"/>
          </a:xfrm>
        </p:grpSpPr>
        <p:sp>
          <p:nvSpPr>
            <p:cNvPr id="395" name=""/>
            <p:cNvSpPr/>
            <p:nvPr/>
          </p:nvSpPr>
          <p:spPr>
            <a:xfrm>
              <a:off x="3401640" y="2156760"/>
              <a:ext cx="247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elp for a particular t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07200" y="2941560"/>
              <a:ext cx="475920" cy="378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59560" y="2465280"/>
              <a:ext cx="0" cy="490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700360" y="365040"/>
            <a:ext cx="7362720" cy="3776760"/>
            <a:chOff x="2700360" y="365040"/>
            <a:chExt cx="7362720" cy="3776760"/>
          </a:xfrm>
        </p:grpSpPr>
        <p:pic>
          <p:nvPicPr>
            <p:cNvPr id="399" name="ccp4i-help" descr=""/>
            <p:cNvPicPr/>
            <p:nvPr/>
          </p:nvPicPr>
          <p:blipFill>
            <a:blip r:embed="rId3"/>
            <a:stretch/>
          </p:blipFill>
          <p:spPr>
            <a:xfrm>
              <a:off x="6194520" y="365040"/>
              <a:ext cx="3868560" cy="377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700360" y="785160"/>
              <a:ext cx="3546360" cy="797400"/>
              <a:chOff x="2700360" y="785160"/>
              <a:chExt cx="3546360" cy="797400"/>
            </a:xfrm>
          </p:grpSpPr>
          <p:sp>
            <p:nvSpPr>
              <p:cNvPr id="401" name=""/>
              <p:cNvSpPr/>
              <p:nvPr/>
            </p:nvSpPr>
            <p:spPr>
              <a:xfrm>
                <a:off x="2700360" y="785160"/>
                <a:ext cx="336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rings up relevant documentation in brows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027760" y="1219320"/>
                <a:ext cx="1218960" cy="36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58F-F93C-4F02-9E42-DF6303AA9BB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cp4i-main" descr=""/>
          <p:cNvPicPr/>
          <p:nvPr/>
        </p:nvPicPr>
        <p:blipFill>
          <a:blip r:embed="rId1"/>
          <a:stretch/>
        </p:blipFill>
        <p:spPr>
          <a:xfrm>
            <a:off x="704880" y="1801800"/>
            <a:ext cx="7734240" cy="305748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615960" y="1326240"/>
            <a:ext cx="7480440" cy="985320"/>
            <a:chOff x="615960" y="1326240"/>
            <a:chExt cx="7480440" cy="985320"/>
          </a:xfrm>
        </p:grpSpPr>
        <p:sp>
          <p:nvSpPr>
            <p:cNvPr id="406" name=""/>
            <p:cNvSpPr/>
            <p:nvPr/>
          </p:nvSpPr>
          <p:spPr>
            <a:xfrm>
              <a:off x="763920" y="1326240"/>
              <a:ext cx="250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ssage line he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48880" y="1987920"/>
              <a:ext cx="491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e-line help message appears in the bar at the top of the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5960" y="1960560"/>
              <a:ext cx="7480440" cy="351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1650600" y="1695600"/>
              <a:ext cx="1800" cy="26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034800" y="4419720"/>
            <a:ext cx="4953960" cy="1351440"/>
            <a:chOff x="3034800" y="4419720"/>
            <a:chExt cx="4953960" cy="1351440"/>
          </a:xfrm>
        </p:grpSpPr>
        <p:sp>
          <p:nvSpPr>
            <p:cNvPr id="411" name=""/>
            <p:cNvSpPr/>
            <p:nvPr/>
          </p:nvSpPr>
          <p:spPr>
            <a:xfrm>
              <a:off x="6440040" y="4419720"/>
              <a:ext cx="1274400" cy="550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84800" y="4970160"/>
              <a:ext cx="0" cy="28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34800" y="5067360"/>
              <a:ext cx="495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nd e-mail to directly to CCP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please send as much information as possible!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re Help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0AB-8E2E-4E51-8FCB-76F81576D6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ccp4i-tasks" descr=""/>
          <p:cNvPicPr/>
          <p:nvPr/>
        </p:nvPicPr>
        <p:blipFill>
          <a:blip r:embed="rId1"/>
          <a:stretch/>
        </p:blipFill>
        <p:spPr>
          <a:xfrm>
            <a:off x="509760" y="2122560"/>
            <a:ext cx="2943000" cy="270036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3600360" y="1339920"/>
            <a:ext cx="4781520" cy="3448080"/>
            <a:chOff x="3600360" y="1339920"/>
            <a:chExt cx="4781520" cy="3448080"/>
          </a:xfrm>
        </p:grpSpPr>
        <p:pic>
          <p:nvPicPr>
            <p:cNvPr id="417" name="ccp4i-roadmap" descr=""/>
            <p:cNvPicPr/>
            <p:nvPr/>
          </p:nvPicPr>
          <p:blipFill>
            <a:blip r:embed="rId2"/>
            <a:stretch/>
          </p:blipFill>
          <p:spPr>
            <a:xfrm>
              <a:off x="4595760" y="1339920"/>
              <a:ext cx="378612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600360" y="3165480"/>
              <a:ext cx="839880" cy="531720"/>
            </a:xfrm>
            <a:prstGeom prst="leftRightArrow">
              <a:avLst>
                <a:gd name="adj1" fmla="val 50000"/>
                <a:gd name="adj2" fmla="val 31445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42600" y="505368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P4 Roadm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ccessed via program index (und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9440" y="5402880"/>
            <a:ext cx="558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P4 Tutorial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also from the program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avigating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C00-63D8-43C6-8F8B-CEDEB56E7507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66840" y="1065960"/>
            <a:ext cx="8408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line hel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ton on main window for general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ton on task interfaces for help with individua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ight-hand mouse button click over part of the window for help on that option or fe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240" y="2928240"/>
            <a:ext cx="82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dmaps through the structure determination 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CCP4/ccp4i/help/roadmap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7560" y="3876120"/>
            <a:ext cx="734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CCP4/examples/tutorial2000/html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7560" y="4823640"/>
            <a:ext cx="30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-mail CCP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cp4@ccp4.ac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CP4 Help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9E2-EB88-4DC0-A00D-AFF62D38B1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23800" y="1365840"/>
            <a:ext cx="793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programs in the structure solution procedure write o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ves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 CCP4 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LPH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MA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23800" y="3807360"/>
            <a:ext cx="749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deposition time these files represent an accurate record of how the final model was ob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3800" y="2738880"/>
            <a:ext cx="765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ile records detail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an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tained (e.g. heavy atom sites used in pha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4875840"/>
            <a:ext cx="74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vest files can be sent directly to the deposition site, avoiding much manual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ta Harv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FC1-1B6C-4E1B-AF1B-B53EB172CDD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1280" y="5088960"/>
            <a:ext cx="73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vesting operates “invisibl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ccp4i-harvest" descr=""/>
          <p:cNvPicPr/>
          <p:nvPr/>
        </p:nvPicPr>
        <p:blipFill>
          <a:blip r:embed="rId1"/>
          <a:stretch/>
        </p:blipFill>
        <p:spPr>
          <a:xfrm>
            <a:off x="1725480" y="3979800"/>
            <a:ext cx="5524560" cy="914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36240" y="1343880"/>
            <a:ext cx="65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vesting requires MTZ files conta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am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3160" y="1647360"/>
            <a:ext cx="7729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add these when data is first imported into CCP4 (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mport Unscaled Data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vert to MTZ &amp; Standardis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tasks i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ata Reduction Modul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edit Project name or Dataset name us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it MTZ Project&amp;Datase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in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flection Data Utilitie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7360" y="2980440"/>
            <a:ext cx="33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on the harvesting o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0520" y="3297240"/>
            <a:ext cx="76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individual tasks e.g.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L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FM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set the harvesting defaults in the CCP4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ndow (RHS of the main window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55440" y="54018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ou don’t need to think about it again until the end of the structur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ata Harvesting in CCP4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CB3-C815-45F5-9E9B-51DA86F5FE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ation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219320"/>
            <a:ext cx="725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do not need root privileges on UNIX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enough spa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DO need Admin privileges on Windows NT/2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used to set up environment variable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else do you need to install CCP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rce code instal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ilers C and FORTR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(UN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zip/Uncompress/tar (UNI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i requires tcl/tk/B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texViewer requires a Java V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67A4-0FAB-4D71-991A-849AE52089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ies or Source Co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76240" y="1600200"/>
          <a:ext cx="7391520" cy="41590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 (inc ease)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wnload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elopers (Customisat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 of systems/port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er problems/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e of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02F-F689-4B87-8466-C65BD85CC8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inaries or Source I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hatnow" descr=""/>
          <p:cNvPicPr/>
          <p:nvPr/>
        </p:nvPicPr>
        <p:blipFill>
          <a:blip r:embed="rId1"/>
          <a:stretch/>
        </p:blipFill>
        <p:spPr>
          <a:xfrm>
            <a:off x="304920" y="1147680"/>
            <a:ext cx="960480" cy="1366920"/>
          </a:xfrm>
          <a:prstGeom prst="rect">
            <a:avLst/>
          </a:prstGeom>
          <a:ln w="0">
            <a:noFill/>
          </a:ln>
        </p:spPr>
      </p:pic>
      <p:cxnSp>
        <p:nvCxnSpPr>
          <p:cNvPr id="65" name=""/>
          <p:cNvCxnSpPr>
            <a:stCxn id="66" idx="3"/>
            <a:endCxn id="67" idx="1"/>
          </p:cNvCxnSpPr>
          <p:nvPr/>
        </p:nvCxnSpPr>
        <p:spPr>
          <a:xfrm flipV="1">
            <a:off x="1741320" y="1828080"/>
            <a:ext cx="1154880" cy="1097640"/>
          </a:xfrm>
          <a:prstGeom prst="bentConnector3">
            <a:avLst>
              <a:gd name="adj1" fmla="val 7149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0564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2520" y="2286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6" idx="3"/>
            <a:endCxn id="70" idx="1"/>
          </p:cNvCxnSpPr>
          <p:nvPr/>
        </p:nvCxnSpPr>
        <p:spPr>
          <a:xfrm>
            <a:off x="1740960" y="2925360"/>
            <a:ext cx="810360" cy="1328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2058840" y="320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00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2560" y="141912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1714320" y="4000320"/>
            <a:ext cx="1676520" cy="2209680"/>
          </a:xfrm>
          <a:prstGeom prst="flowChartPunchedTap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5520" y="21718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2" idx="1"/>
          </p:cNvCxnSpPr>
          <p:nvPr/>
        </p:nvCxnSpPr>
        <p:spPr>
          <a:xfrm>
            <a:off x="4483080" y="1828800"/>
            <a:ext cx="699120" cy="2160"/>
          </a:xfrm>
          <a:prstGeom prst="bentConnector3">
            <a:avLst>
              <a:gd name="adj1" fmla="val 49974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4497480" y="1447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26880" y="274320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2" idx="2"/>
            <a:endCxn id="76" idx="0"/>
          </p:cNvCxnSpPr>
          <p:nvPr/>
        </p:nvCxnSpPr>
        <p:spPr>
          <a:xfrm>
            <a:off x="5560560" y="2241360"/>
            <a:ext cx="2520" cy="501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249960" y="1447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5280" y="217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73400" y="3581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267080"/>
            <a:ext cx="1981080" cy="160020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2" idx="3"/>
            <a:endCxn id="81" idx="0"/>
          </p:cNvCxnSpPr>
          <p:nvPr/>
        </p:nvCxnSpPr>
        <p:spPr>
          <a:xfrm>
            <a:off x="5940360" y="1830240"/>
            <a:ext cx="1223280" cy="2424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40224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6" idx="3"/>
            <a:endCxn id="81" idx="0"/>
          </p:cNvCxnSpPr>
          <p:nvPr/>
        </p:nvCxnSpPr>
        <p:spPr>
          <a:xfrm>
            <a:off x="6296040" y="3154320"/>
            <a:ext cx="867600" cy="1100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6" idx="2"/>
            <a:endCxn id="70" idx="0"/>
          </p:cNvCxnSpPr>
          <p:nvPr/>
        </p:nvCxnSpPr>
        <p:spPr>
          <a:xfrm rot="5400000">
            <a:off x="3736440" y="3277800"/>
            <a:ext cx="1539000" cy="211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67" idx="2"/>
            <a:endCxn id="76" idx="1"/>
          </p:cNvCxnSpPr>
          <p:nvPr/>
        </p:nvCxnSpPr>
        <p:spPr>
          <a:xfrm flipH="1" rot="16200000">
            <a:off x="3709800" y="2036160"/>
            <a:ext cx="1097640" cy="11390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1445040" y="914400"/>
            <a:ext cx="74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urrently supported: irix, linux, OSF1, SunOS,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1371600"/>
            <a:ext cx="1143000" cy="685800"/>
          </a:xfrm>
          <a:prstGeom prst="wedgeRoundRectCallout">
            <a:avLst>
              <a:gd name="adj1" fmla="val -74583"/>
              <a:gd name="adj2" fmla="val -3935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aries or sour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750-B056-4AC5-9F40-C4DC434B9A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np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54440" y="1676520"/>
            <a:ext cx="7436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wnload the file into an area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ough space to download and unpac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uncompress a .gz file use gunz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uncompress a .Z file use uncom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ar file is a collation of many fi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extract the files from a tar file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r –xvf file.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esentation by Alun Ashton, awa@dl.ac.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D8F2-B283-463D-9F4A-164D34DC2BD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CP4 Workshop ACA, Texas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9:44:26Z</dcterms:created>
  <dc:creator>Alun Ashton</dc:creator>
  <dc:description/>
  <dc:language>en-US</dc:language>
  <cp:lastModifiedBy>Mark Enderby</cp:lastModifiedBy>
  <dcterms:modified xsi:type="dcterms:W3CDTF">2002-05-20T09:23:07Z</dcterms:modified>
  <cp:revision>16</cp:revision>
  <dc:subject/>
  <dc:title>PowerPoint Presentation</dc:title>
</cp:coreProperties>
</file>